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1E2-75E4-4FCA-AEEA-49B24B5B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DCC-5FB1-4733-9343-74027902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9D2-C9B1-42AD-9F64-68C33B8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A7D-FCD9-46DE-A6C8-4FF84988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D96-E406-4E31-B784-F415CE01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E18-82B6-4C60-B442-5311C4A3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223-7088-4C6D-A047-66E3D676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C70-F5C9-432B-B584-5C59057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0EC-DB9C-475C-920F-952B64C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8F1-4CD6-4304-8B77-A77ADF1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37C-A9E0-4F5F-88CA-0DB06ECD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4A4-3E00-4E2A-B8CA-4B3788E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4570-890F-4950-B403-EB5B23766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elated links"/>
          <p:cNvPicPr/>
          <p:nvPr/>
        </p:nvPicPr>
        <p:blipFill>
          <a:blip r:embed="rId1"/>
          <a:stretch/>
        </p:blipFill>
        <p:spPr>
          <a:xfrm>
            <a:off x="7543800" y="2666880"/>
            <a:ext cx="1349280" cy="1108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1066680" y="1143000"/>
            <a:ext cx="678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Three Branches of Governm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erica the Beautiful.mp3" descr=""/>
          <p:cNvPicPr/>
          <p:nvPr/>
        </p:nvPicPr>
        <p:blipFill>
          <a:blip r:embed="rId2"/>
          <a:stretch/>
        </p:blipFill>
        <p:spPr>
          <a:xfrm>
            <a:off x="533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There are 3 branches of Gover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04920" y="37782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 200 years ago, our Founding Fathers wrote the Constitution.  The Constitution is a basic design for how our government should work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e Constitution divides the government into the following three branches: the legislative, executive, and judicial bra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Branches of Government Diagram.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28843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2"/>
          <p:cNvGrpSpPr/>
          <p:nvPr/>
        </p:nvGrpSpPr>
        <p:grpSpPr>
          <a:xfrm>
            <a:off x="2498760" y="2274840"/>
            <a:ext cx="6858000" cy="360"/>
            <a:chOff x="2498760" y="2274840"/>
            <a:chExt cx="6858000" cy="360"/>
          </a:xfrm>
        </p:grpSpPr>
        <p:sp>
          <p:nvSpPr>
            <p:cNvPr id="49" name="Rectangle 31"/>
            <p:cNvSpPr/>
            <p:nvPr/>
          </p:nvSpPr>
          <p:spPr>
            <a:xfrm>
              <a:off x="2498760" y="2274840"/>
              <a:ext cx="685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8"/>
            <p:cNvSpPr/>
            <p:nvPr/>
          </p:nvSpPr>
          <p:spPr>
            <a:xfrm>
              <a:off x="2498760" y="2274840"/>
              <a:ext cx="6858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5"/>
          <p:cNvGrpSpPr/>
          <p:nvPr/>
        </p:nvGrpSpPr>
        <p:grpSpPr>
          <a:xfrm>
            <a:off x="1143000" y="1090440"/>
            <a:ext cx="6858000" cy="4678200"/>
            <a:chOff x="1143000" y="1090440"/>
            <a:chExt cx="6858000" cy="4678200"/>
          </a:xfrm>
        </p:grpSpPr>
        <p:sp>
          <p:nvSpPr>
            <p:cNvPr id="52" name="Rectangle 4"/>
            <p:cNvSpPr/>
            <p:nvPr/>
          </p:nvSpPr>
          <p:spPr>
            <a:xfrm>
              <a:off x="1143000" y="1090440"/>
              <a:ext cx="6858000" cy="46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2"/>
            <p:cNvSpPr/>
            <p:nvPr/>
          </p:nvSpPr>
          <p:spPr>
            <a:xfrm>
              <a:off x="1143000" y="1090440"/>
              <a:ext cx="6858000" cy="46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Picture 3" descr="Diagram:  Branches of Government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78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80880" y="30492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3 Branches of the National Gover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0492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Government: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The Legislative Bran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The U.S. Capitol"/>
          <p:cNvPicPr/>
          <p:nvPr/>
        </p:nvPicPr>
        <p:blipFill>
          <a:blip r:embed="rId1"/>
          <a:stretch/>
        </p:blipFill>
        <p:spPr>
          <a:xfrm>
            <a:off x="2514600" y="1828800"/>
            <a:ext cx="3921120" cy="2112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04920" y="3978360"/>
            <a:ext cx="852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legislative branch makes laws for the 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main lawmaking body of this branch is known as Cong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Congress is made up of two parts, the House of Representatives and the Sen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National Government: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The Executive Bran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40384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executive branch makes sure people follow the laws that the legislative branch mak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leaders of this branch are the President and Vice-Pres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When making important decisions, the President often asks for advice from the Cabin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The White House"/>
          <p:cNvPicPr/>
          <p:nvPr/>
        </p:nvPicPr>
        <p:blipFill>
          <a:blip r:embed="rId1"/>
          <a:stretch/>
        </p:blipFill>
        <p:spPr>
          <a:xfrm>
            <a:off x="2590920" y="1871640"/>
            <a:ext cx="373356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Government: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The Judicial Bran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The Supreme Court"/>
          <p:cNvPicPr/>
          <p:nvPr/>
        </p:nvPicPr>
        <p:blipFill>
          <a:blip r:embed="rId1"/>
          <a:stretch/>
        </p:blipFill>
        <p:spPr>
          <a:xfrm>
            <a:off x="2666880" y="1868400"/>
            <a:ext cx="3581640" cy="1930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04920" y="39625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When people are unsure about the meaning of a law, the judicial branch listens to many opinions and makes a deci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judicial branch is made up of cou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The highest of these courts is the U.S. Supreme Court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s and Bala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The U.S. Capitol"/>
          <p:cNvPicPr/>
          <p:nvPr/>
        </p:nvPicPr>
        <p:blipFill>
          <a:blip r:embed="rId1"/>
          <a:stretch/>
        </p:blipFill>
        <p:spPr>
          <a:xfrm>
            <a:off x="609480" y="1905120"/>
            <a:ext cx="2486160" cy="133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The White House"/>
          <p:cNvPicPr/>
          <p:nvPr/>
        </p:nvPicPr>
        <p:blipFill>
          <a:blip r:embed="rId2"/>
          <a:stretch/>
        </p:blipFill>
        <p:spPr>
          <a:xfrm>
            <a:off x="5791320" y="1905120"/>
            <a:ext cx="25462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he Supreme Court"/>
          <p:cNvPicPr/>
          <p:nvPr/>
        </p:nvPicPr>
        <p:blipFill>
          <a:blip r:embed="rId3"/>
          <a:stretch/>
        </p:blipFill>
        <p:spPr>
          <a:xfrm>
            <a:off x="3124080" y="4952880"/>
            <a:ext cx="2590920" cy="1397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590920" y="33526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branch of the government has powers that are meant to keep the other branches from becoming too strong. These are known as “Checks and Balanc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eft-Right Arrow 7"/>
          <p:cNvSpPr/>
          <p:nvPr/>
        </p:nvSpPr>
        <p:spPr>
          <a:xfrm>
            <a:off x="3352680" y="2209680"/>
            <a:ext cx="1981440" cy="484200"/>
          </a:xfrm>
          <a:prstGeom prst="left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eft-Right Arrow 8"/>
          <p:cNvSpPr/>
          <p:nvPr/>
        </p:nvSpPr>
        <p:spPr>
          <a:xfrm rot="18607200">
            <a:off x="5853240" y="4098600"/>
            <a:ext cx="1981080" cy="485640"/>
          </a:xfrm>
          <a:prstGeom prst="leftRightArrow">
            <a:avLst>
              <a:gd name="adj1" fmla="val 50000"/>
              <a:gd name="adj2" fmla="val 498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eft-Right Arrow 9"/>
          <p:cNvSpPr/>
          <p:nvPr/>
        </p:nvSpPr>
        <p:spPr>
          <a:xfrm rot="2936400">
            <a:off x="909360" y="4321080"/>
            <a:ext cx="1981440" cy="485640"/>
          </a:xfrm>
          <a:prstGeom prst="leftRightArrow">
            <a:avLst>
              <a:gd name="adj1" fmla="val 50000"/>
              <a:gd name="adj2" fmla="val 4990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7:01:14Z</dcterms:created>
  <dc:creator>training</dc:creator>
  <dc:description/>
  <dc:language>en-US</dc:language>
  <cp:lastModifiedBy>taas</cp:lastModifiedBy>
  <dcterms:modified xsi:type="dcterms:W3CDTF">2011-06-16T15:41:38Z</dcterms:modified>
  <cp:revision>28</cp:revision>
  <dc:subject/>
  <dc:title>PowerPoint Presentation</dc:title>
</cp:coreProperties>
</file>