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7.wmf" ContentType="image/x-wmf"/>
  <Override PartName="/ppt/media/image11.wmf" ContentType="image/x-wmf"/>
  <Override PartName="/ppt/media/image17.jpeg" ContentType="image/jpeg"/>
  <Override PartName="/ppt/media/image6.wmf" ContentType="image/x-wmf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.jpeg" ContentType="image/jpeg"/>
  <Override PartName="/ppt/media/image23.jpeg" ContentType="image/jpeg"/>
  <Override PartName="/ppt/media/image27.jpeg" ContentType="image/jpeg"/>
  <Override PartName="/ppt/media/image16.wmf" ContentType="image/x-wmf"/>
  <Override PartName="/ppt/media/image25.png" ContentType="image/png"/>
  <Override PartName="/ppt/media/image24.png" ContentType="image/png"/>
  <Override PartName="/ppt/media/image21.jpeg" ContentType="image/jpeg"/>
  <Override PartName="/ppt/media/image20.png" ContentType="image/png"/>
  <Override PartName="/ppt/media/image18.jpeg" ContentType="image/jpeg"/>
  <Override PartName="/ppt/media/image19.wmf" ContentType="image/x-wmf"/>
  <Override PartName="/ppt/media/image26.wmf" ContentType="image/x-wmf"/>
  <Override PartName="/ppt/media/image1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5871-62CF-4C46-B1E0-5D8E3BCD5B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35F5-2674-4D7A-A459-EDE9FECC4F1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F62E-7548-4C0E-9875-7D3F7D4AFE0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3125-D449-4D6F-977D-B6C9AE18802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AABA-0681-4330-98DE-304F6D78990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4E87-5A67-41CE-9C20-0A5A2538455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7F34-67CE-4F77-8F42-EE0220BC477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AB28-048D-413C-AABC-3AD02D7B33B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6190-8B40-4DFB-B3B7-817A1B978ED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6F4B-D08B-4AB5-8643-7258FE32984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2835-17D2-45BF-9463-9BED6578CE5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30E3-9B1E-48B1-A27D-9C1BCF29B47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8CE9-0035-4CA3-818F-C8D08A3C6F8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18F9-DE09-4CE0-8FF8-CDC180E5635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12CA-0B81-46FA-A0FA-2855E5228F2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5185-5E2C-403F-A42B-558B3C3B65A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58DA-1D2C-4692-A00A-4F621F49B38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C773-33F7-407D-BA14-F1A05D9B9C9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5025-3A5C-4ED2-8901-6E6F38A4DE8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561C-6AFB-4E85-8A14-A07CDB9169A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DDBE-9DAB-49A5-BA57-C88FA1C7C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3F35-BA1C-4469-A53F-7B6829D7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7786-68DD-4985-AC16-D3D870A1C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F034-7B5B-45C2-A7DB-EC88C2D29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F1BB-4EC4-4AD2-A0EF-E30EC0CED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DDE8-AC1E-4F0A-B93F-FBF88784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7F54-CF85-4982-9724-70FB2C43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78373-36F4-4F8F-A73A-D24BC4BF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1299-117B-4E53-B224-FB9EA303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E37D-1492-4422-BF41-8CC5B5CB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0C72-4240-4C42-8014-C8EBF1E2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2476-AC0A-43BE-B55A-2B06DF64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6BE3-47E5-4AEA-92C7-3D63AB86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977C-C261-44A6-BD61-8347F18D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B3B3-65F4-4D15-B451-535ECED7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BC6E-8604-458E-961F-89B5B5253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01AD-C989-4270-829E-B1BA73FB8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4A775-C7E8-4AB9-AF89-56F831B2E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83AF6-5195-4C2E-9FE5-7E575923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BC734-7D05-4AED-8EB0-510BF7DF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3FA1F-2FCD-4C05-871F-3205D731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3DF92-8940-49C9-9FFE-BD905D90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6297-E9EF-490A-A65A-2CD3C1C6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2B1B8-13A1-4501-96B0-685A487F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B40BC-2062-4130-BF65-23B00AEC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02FCA-2C7D-4DD4-9648-9380674D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2F6B6-738E-4626-80B9-D3D4C354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3A7B1-A7FD-4B9D-9518-1F207DDA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12F06-43F6-448B-9A83-400295D0D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838A0-54F8-404E-865C-9218EF573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09841-9A77-4AAA-A726-19D84A469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3F244-E0DB-4D6E-B815-DD6DA0EC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EB167-BD11-4037-982B-7841BC18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F901-1DCA-4435-A078-33AF85CE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027C3-A7D1-4D7C-AEAD-EDA38FFD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EB83F-0FD2-4A13-AF6F-0EE11B96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38132-874A-4DB9-A982-02D7DF4B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8291B-253A-4649-A7BF-FDE85173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523D2-4192-4AFE-9DDE-FB570A48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B88F3-9D98-4AE5-9BA6-159E43F2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68666-99FC-4CB0-B649-CB34C3E4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F0A1D-11D0-42B9-AE3B-ABC85C311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D2796-08B0-4D05-A212-E0305E1AA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E045B-DBDD-48C5-93E5-041117A71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6019-4E1A-4731-A8C2-6F0CC575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171D5-1178-407F-A36E-3DD97045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B940E-ACE3-421F-A4F3-9EB9E522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9947D-F3DD-481F-AAB0-AB1031C9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DF438-FFDF-4079-9DE7-0AE90FBE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A138B-69C2-4FD4-BCAA-B29430F6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9F250-C253-4EE8-AC4F-79CA042E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8A4D1-7710-4E30-BC98-8CB4AC14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E3531-5868-455C-B3D8-71407E3E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42299-FC5D-4B64-BF8C-5FF5F796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15081-C805-4F9C-A7BD-F997508D7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0F53-0952-4038-8301-C1E9B107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1CF40-9334-4E8C-90B3-BDFF71F9D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F8F8D-0CFE-4437-8E59-054F10E76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C454B-11E4-48C2-9E64-DFFAF8DB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7B5A7-328A-4760-8FE3-BC05D304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F109F-CE66-4668-B149-20E3A160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1CFD1-5EEC-4EAD-9E21-17B3EAFE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4B8BA-5848-41C0-B6BE-63765210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39E11-50AC-4332-A60A-3FA984ED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96CEB-8FDA-4D24-88B9-CB97B8A0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3C6F5-2049-41E9-8316-99A3AC4F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EF45-3862-44D8-BD59-989FD0BE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EB53B-0273-4A3B-B5BC-4D6FD5D8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171AB-DEED-49F4-A831-6326FA2E1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620C6-47A8-4C63-AC0D-78D2A40A5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AA11C-62FB-41DE-835E-0BA770D95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6F7CF-9B85-407B-B251-6597F616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D7652-C818-423F-B66B-5B21B1CD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1EBBF-E5A2-44E2-881E-145F716E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F5383-574D-4BD4-B25E-9C2A30A0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A0CF6-76D6-43BA-9B70-E471D957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8582C-C5AE-444E-A6C9-B4F218F8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AC6D-255F-4519-95EE-5FFE5414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836E9-908E-42DC-87BD-08FE2EC0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776F5-8BC1-4AA5-A97F-CBC639B6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D3B03-4271-4C85-A0C9-C840F8AB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ED02A-C633-4CE8-A175-E74A0D7C1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B1367-EE8A-4651-867E-030A6FDCB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3146-77D3-4188-9B68-4D49CC5A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CF57-35E2-46F4-876D-19C1562C57B4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20C7-5CE0-4887-9142-D067D6D88027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1C50-0BC1-4872-B46C-34FCBE7C9F31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3C14-249C-4191-9CB6-D4FDA7682996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28AA-2325-4EA9-9071-D686834C34CD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F932-79FE-45E2-8040-A8919278350D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556A-D5A5-4BC5-8D5F-9C2D2B4D9CB4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8" descr="C:\Documents and Settings\Melissa Cole\Local Settings\Temporary Internet Files\Content.IE5\VYH67POE\MP900442173[1].jpg"/>
          <p:cNvPicPr/>
          <p:nvPr/>
        </p:nvPicPr>
        <p:blipFill>
          <a:blip r:embed="rId1"/>
          <a:stretch/>
        </p:blipFill>
        <p:spPr>
          <a:xfrm>
            <a:off x="2895480" y="2438280"/>
            <a:ext cx="2870280" cy="4668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7" descr="C:\Documents and Settings\Melissa Cole\Local Settings\Temporary Internet Files\Content.IE5\QO8CVH9S\MP900430994[1].jpg"/>
          <p:cNvPicPr/>
          <p:nvPr/>
        </p:nvPicPr>
        <p:blipFill>
          <a:blip r:embed="rId2"/>
          <a:stretch/>
        </p:blipFill>
        <p:spPr>
          <a:xfrm>
            <a:off x="5560920" y="1487520"/>
            <a:ext cx="3583080" cy="53704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5" descr="C:\Documents and Settings\Melissa Cole\Local Settings\Temporary Internet Files\Content.IE5\VYH67POE\MP900316593[1].jpg"/>
          <p:cNvPicPr/>
          <p:nvPr/>
        </p:nvPicPr>
        <p:blipFill>
          <a:blip r:embed="rId3"/>
          <a:stretch/>
        </p:blipFill>
        <p:spPr>
          <a:xfrm>
            <a:off x="457200" y="2743200"/>
            <a:ext cx="2468520" cy="3657600"/>
          </a:xfrm>
          <a:prstGeom prst="rect">
            <a:avLst/>
          </a:prstGeom>
          <a:ln w="0">
            <a:noFill/>
          </a:ln>
        </p:spPr>
      </p:pic>
      <p:pic>
        <p:nvPicPr>
          <p:cNvPr id="378" name="Title 1" descr=""/>
          <p:cNvPicPr/>
          <p:nvPr/>
        </p:nvPicPr>
        <p:blipFill>
          <a:blip r:embed="rId4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" descr="C:\Documents and Settings\Melissa Cole\Local Settings\Temporary Internet Files\Content.IE5\VYH67POE\MP900403733[1].jpg"/>
          <p:cNvPicPr/>
          <p:nvPr/>
        </p:nvPicPr>
        <p:blipFill>
          <a:blip r:embed="rId5"/>
          <a:stretch/>
        </p:blipFill>
        <p:spPr>
          <a:xfrm>
            <a:off x="6400800" y="152280"/>
            <a:ext cx="2505240" cy="313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C:\Documents and Settings\Melissa Cole\Local Settings\Temporary Internet Files\Content.IE5\DL2NCCX8\MC900198419[1].wmf"/>
          <p:cNvPicPr/>
          <p:nvPr/>
        </p:nvPicPr>
        <p:blipFill>
          <a:blip r:embed="rId6"/>
          <a:stretch/>
        </p:blipFill>
        <p:spPr>
          <a:xfrm>
            <a:off x="380880" y="0"/>
            <a:ext cx="2719440" cy="27432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C:\Documents and Settings\Melissa Cole\Local Settings\Temporary Internet Files\Content.IE5\QO8CVH9S\MC900213057[1].wmf"/>
          <p:cNvPicPr/>
          <p:nvPr/>
        </p:nvPicPr>
        <p:blipFill>
          <a:blip r:embed="rId7"/>
          <a:stretch/>
        </p:blipFill>
        <p:spPr>
          <a:xfrm>
            <a:off x="7391520" y="3733920"/>
            <a:ext cx="1487520" cy="18032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C:\Documents and Settings\Melissa Cole\Local Settings\Temporary Internet Files\Content.IE5\DL2NCCX8\MP900316534[1].jpg"/>
          <p:cNvPicPr/>
          <p:nvPr/>
        </p:nvPicPr>
        <p:blipFill>
          <a:blip r:embed="rId8"/>
          <a:stretch/>
        </p:blipFill>
        <p:spPr>
          <a:xfrm>
            <a:off x="2895480" y="0"/>
            <a:ext cx="3657600" cy="2505240"/>
          </a:xfrm>
          <a:prstGeom prst="rect">
            <a:avLst/>
          </a:prstGeom>
          <a:ln w="0">
            <a:noFill/>
          </a:ln>
        </p:spPr>
      </p:pic>
      <p:pic>
        <p:nvPicPr>
          <p:cNvPr id="383" name="Hot__Cold_-_01_-_Out_of_the_Grey.mp3" descr=""/>
          <p:cNvPicPr/>
          <p:nvPr/>
        </p:nvPicPr>
        <p:blipFill>
          <a:blip r:embed="rId9"/>
          <a:stretch/>
        </p:blipFill>
        <p:spPr>
          <a:xfrm>
            <a:off x="4572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urren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914040" y="1752480"/>
            <a:ext cx="3505320" cy="30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movement or flow of electricity in a certain path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408" name="Group 2"/>
          <p:cNvGrpSpPr/>
          <p:nvPr/>
        </p:nvGrpSpPr>
        <p:grpSpPr>
          <a:xfrm>
            <a:off x="4648320" y="3352680"/>
            <a:ext cx="3647880" cy="2742480"/>
            <a:chOff x="4648320" y="3352680"/>
            <a:chExt cx="3647880" cy="2742480"/>
          </a:xfrm>
        </p:grpSpPr>
        <p:sp>
          <p:nvSpPr>
            <p:cNvPr id="409" name="AutoShape 3"/>
            <p:cNvSpPr/>
            <p:nvPr/>
          </p:nvSpPr>
          <p:spPr>
            <a:xfrm>
              <a:off x="4648320" y="3352680"/>
              <a:ext cx="3618720" cy="1189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AutoShape 4"/>
            <p:cNvSpPr/>
            <p:nvPr/>
          </p:nvSpPr>
          <p:spPr>
            <a:xfrm>
              <a:off x="5021280" y="3776760"/>
              <a:ext cx="452160" cy="242280"/>
            </a:xfrm>
            <a:prstGeom prst="rightArrow">
              <a:avLst>
                <a:gd name="adj1" fmla="val 50000"/>
                <a:gd name="adj2" fmla="val 46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AutoShape 5"/>
            <p:cNvSpPr/>
            <p:nvPr/>
          </p:nvSpPr>
          <p:spPr>
            <a:xfrm>
              <a:off x="5690520" y="3776760"/>
              <a:ext cx="452160" cy="242280"/>
            </a:xfrm>
            <a:prstGeom prst="rightArrow">
              <a:avLst>
                <a:gd name="adj1" fmla="val 50000"/>
                <a:gd name="adj2" fmla="val 46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AutoShape 6"/>
            <p:cNvSpPr/>
            <p:nvPr/>
          </p:nvSpPr>
          <p:spPr>
            <a:xfrm>
              <a:off x="6294600" y="3809160"/>
              <a:ext cx="452160" cy="242280"/>
            </a:xfrm>
            <a:prstGeom prst="rightArrow">
              <a:avLst>
                <a:gd name="adj1" fmla="val 50000"/>
                <a:gd name="adj2" fmla="val 46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AutoShape 7"/>
            <p:cNvSpPr/>
            <p:nvPr/>
          </p:nvSpPr>
          <p:spPr>
            <a:xfrm>
              <a:off x="6893280" y="3853080"/>
              <a:ext cx="452520" cy="242640"/>
            </a:xfrm>
            <a:prstGeom prst="rightArrow">
              <a:avLst>
                <a:gd name="adj1" fmla="val 50000"/>
                <a:gd name="adj2" fmla="val 4662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AutoShape 8"/>
            <p:cNvSpPr/>
            <p:nvPr/>
          </p:nvSpPr>
          <p:spPr>
            <a:xfrm>
              <a:off x="7492320" y="3875400"/>
              <a:ext cx="452160" cy="242280"/>
            </a:xfrm>
            <a:prstGeom prst="rightArrow">
              <a:avLst>
                <a:gd name="adj1" fmla="val 50000"/>
                <a:gd name="adj2" fmla="val 46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AutoShape 9"/>
            <p:cNvSpPr/>
            <p:nvPr/>
          </p:nvSpPr>
          <p:spPr>
            <a:xfrm>
              <a:off x="4677120" y="4906440"/>
              <a:ext cx="3619080" cy="1188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AutoShape 10"/>
            <p:cNvSpPr/>
            <p:nvPr/>
          </p:nvSpPr>
          <p:spPr>
            <a:xfrm rot="10800000">
              <a:off x="7532280" y="5384880"/>
              <a:ext cx="452520" cy="242640"/>
            </a:xfrm>
            <a:prstGeom prst="rightArrow">
              <a:avLst>
                <a:gd name="adj1" fmla="val 50000"/>
                <a:gd name="adj2" fmla="val 4662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AutoShape 11"/>
            <p:cNvSpPr/>
            <p:nvPr/>
          </p:nvSpPr>
          <p:spPr>
            <a:xfrm rot="10800000">
              <a:off x="6915960" y="5394960"/>
              <a:ext cx="452160" cy="242280"/>
            </a:xfrm>
            <a:prstGeom prst="rightArrow">
              <a:avLst>
                <a:gd name="adj1" fmla="val 50000"/>
                <a:gd name="adj2" fmla="val 46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AutoShape 12"/>
            <p:cNvSpPr/>
            <p:nvPr/>
          </p:nvSpPr>
          <p:spPr>
            <a:xfrm rot="10800000">
              <a:off x="6328800" y="5416920"/>
              <a:ext cx="452160" cy="242640"/>
            </a:xfrm>
            <a:prstGeom prst="rightArrow">
              <a:avLst>
                <a:gd name="adj1" fmla="val 50000"/>
                <a:gd name="adj2" fmla="val 4658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AutoShape 13"/>
            <p:cNvSpPr/>
            <p:nvPr/>
          </p:nvSpPr>
          <p:spPr>
            <a:xfrm rot="10800000">
              <a:off x="5671440" y="5373000"/>
              <a:ext cx="452160" cy="242640"/>
            </a:xfrm>
            <a:prstGeom prst="rightArrow">
              <a:avLst>
                <a:gd name="adj1" fmla="val 50000"/>
                <a:gd name="adj2" fmla="val 4658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AutoShape 14"/>
            <p:cNvSpPr/>
            <p:nvPr/>
          </p:nvSpPr>
          <p:spPr>
            <a:xfrm rot="10800000">
              <a:off x="5065920" y="5361120"/>
              <a:ext cx="452520" cy="242280"/>
            </a:xfrm>
            <a:prstGeom prst="rightArrow">
              <a:avLst>
                <a:gd name="adj1" fmla="val 50000"/>
                <a:gd name="adj2" fmla="val 4669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914400" y="1784520"/>
            <a:ext cx="77724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lectric eels can produce an electric current of 650 volts of electricity which is 5 times the amount of electricity given out from a wall outlet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22" name="Picture 4" descr="C:\Documents and Settings\Melissa Cole\Local Settings\Temporary Internet Files\Content.IE5\VYH67POE\MC900441383[1].wmf"/>
          <p:cNvPicPr/>
          <p:nvPr/>
        </p:nvPicPr>
        <p:blipFill>
          <a:blip r:embed="rId1"/>
          <a:stretch/>
        </p:blipFill>
        <p:spPr>
          <a:xfrm>
            <a:off x="3352680" y="36576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ircui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914400" y="1784520"/>
            <a:ext cx="3581280" cy="33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athway that starts and finishes at the same pla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425" name="Group 2"/>
          <p:cNvGrpSpPr/>
          <p:nvPr/>
        </p:nvGrpSpPr>
        <p:grpSpPr>
          <a:xfrm>
            <a:off x="5105520" y="1260360"/>
            <a:ext cx="2895120" cy="3006360"/>
            <a:chOff x="5105520" y="1260360"/>
            <a:chExt cx="2895120" cy="3006360"/>
          </a:xfrm>
        </p:grpSpPr>
        <p:sp>
          <p:nvSpPr>
            <p:cNvPr id="426" name="AutoShape 3"/>
            <p:cNvSpPr/>
            <p:nvPr/>
          </p:nvSpPr>
          <p:spPr>
            <a:xfrm rot="10609200">
              <a:off x="5181480" y="1294560"/>
              <a:ext cx="1322640" cy="2773080"/>
            </a:xfrm>
            <a:custGeom>
              <a:avLst/>
              <a:gdLst>
                <a:gd name="textAreaLeft" fmla="*/ 177120 w 1322640"/>
                <a:gd name="textAreaRight" fmla="*/ 1145520 w 1322640"/>
                <a:gd name="textAreaTop" fmla="*/ 485280 h 2773080"/>
                <a:gd name="textAreaBottom" fmla="*/ 2010600 h 277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7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AutoShape 4"/>
            <p:cNvSpPr/>
            <p:nvPr/>
          </p:nvSpPr>
          <p:spPr>
            <a:xfrm>
              <a:off x="6678000" y="1493640"/>
              <a:ext cx="1322640" cy="2773080"/>
            </a:xfrm>
            <a:custGeom>
              <a:avLst/>
              <a:gdLst>
                <a:gd name="textAreaLeft" fmla="*/ 177120 w 1322640"/>
                <a:gd name="textAreaRight" fmla="*/ 1145520 w 1322640"/>
                <a:gd name="textAreaTop" fmla="*/ 485280 h 2773080"/>
                <a:gd name="textAreaBottom" fmla="*/ 2010600 h 277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838080" y="4038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 1746 200 people formed a circle while holding a piece of wire, each became shocked by a large battery at the same time becoming the first and largest human electric circuit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29" name="Picture 4" descr="C:\Documents and Settings\Melissa Cole\Local Settings\Temporary Internet Files\Content.IE5\QO8CVH9S\MC900439611[1].png"/>
          <p:cNvPicPr/>
          <p:nvPr/>
        </p:nvPicPr>
        <p:blipFill>
          <a:blip r:embed="rId1"/>
          <a:stretch/>
        </p:blipFill>
        <p:spPr>
          <a:xfrm>
            <a:off x="2286000" y="457200"/>
            <a:ext cx="436248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lectromagne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914040" y="1784160"/>
            <a:ext cx="3352680" cy="41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 magnet that is powered by electricity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2" name="Picture 2" descr="http://upload.wikimedia.org/wikipedia/commons/9/92/Homemade_Electromagnet.jpg"/>
          <p:cNvPicPr/>
          <p:nvPr/>
        </p:nvPicPr>
        <p:blipFill>
          <a:blip r:embed="rId1"/>
          <a:stretch/>
        </p:blipFill>
        <p:spPr>
          <a:xfrm>
            <a:off x="4267080" y="2362320"/>
            <a:ext cx="443088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685800" y="32767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lectromagnets are used everywhere including doorbells, telephones, door locks, and junk yards to lift up car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y also guide certain trains along their tracks without wheels at 300 miles per hour!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4" name="Picture 5" descr="C:\Documents and Settings\Melissa Cole\Local Settings\Temporary Internet Files\Content.IE5\1UY8GMUX\MP900442804[1].jpg"/>
          <p:cNvPicPr/>
          <p:nvPr/>
        </p:nvPicPr>
        <p:blipFill>
          <a:blip r:embed="rId1"/>
          <a:stretch/>
        </p:blipFill>
        <p:spPr>
          <a:xfrm>
            <a:off x="990720" y="304920"/>
            <a:ext cx="3995640" cy="26668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6" descr="C:\Documents and Settings\Melissa Cole\Local Settings\Temporary Internet Files\Content.IE5\QO8CVH9S\MP900442453[1].jpg"/>
          <p:cNvPicPr/>
          <p:nvPr/>
        </p:nvPicPr>
        <p:blipFill>
          <a:blip r:embed="rId2"/>
          <a:stretch/>
        </p:blipFill>
        <p:spPr>
          <a:xfrm>
            <a:off x="5257800" y="609480"/>
            <a:ext cx="3425760" cy="22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Open Circui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723920" y="1828440"/>
            <a:ext cx="396252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n open connection path where energy does not flow continuously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Arc 2"/>
          <p:cNvSpPr/>
          <p:nvPr/>
        </p:nvSpPr>
        <p:spPr>
          <a:xfrm>
            <a:off x="728640" y="457200"/>
            <a:ext cx="725400" cy="596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4481640" y="2275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4481640" y="593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2" name="Picture 1" descr="C:\Documents and Settings\Melissa Cole\Local Settings\Temporary Internet Files\Content.IE5\QO8CVH9S\MC900432643[1].png"/>
          <p:cNvPicPr/>
          <p:nvPr/>
        </p:nvPicPr>
        <p:blipFill>
          <a:blip r:embed="rId1"/>
          <a:stretch/>
        </p:blipFill>
        <p:spPr>
          <a:xfrm>
            <a:off x="1219320" y="2666880"/>
            <a:ext cx="2025360" cy="166536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C:\Documents and Settings\Melissa Cole\Local Settings\Temporary Internet Files\Content.IE5\DL2NCCX8\MC900432648[1].png"/>
          <p:cNvPicPr/>
          <p:nvPr/>
        </p:nvPicPr>
        <p:blipFill>
          <a:blip r:embed="rId2"/>
          <a:stretch/>
        </p:blipFill>
        <p:spPr>
          <a:xfrm rot="6413400">
            <a:off x="4939200" y="4507920"/>
            <a:ext cx="1295280" cy="15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685800" y="609120"/>
            <a:ext cx="7772400" cy="25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Open circuits cause problems all over your house including lights not working, electricity going off, and your air-conditioning or heat not working. When that happens circuit detectives can be called…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5" name="Picture 4" descr="C:\Documents and Settings\Melissa Cole\Local Settings\Temporary Internet Files\Content.IE5\DL2NCCX8\MC900289961[1].wmf"/>
          <p:cNvPicPr/>
          <p:nvPr/>
        </p:nvPicPr>
        <p:blipFill>
          <a:blip r:embed="rId1"/>
          <a:stretch/>
        </p:blipFill>
        <p:spPr>
          <a:xfrm>
            <a:off x="5486400" y="2819520"/>
            <a:ext cx="2635200" cy="29811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6" descr="C:\Documents and Settings\Melissa Cole\Local Settings\Temporary Internet Files\Content.IE5\DL2NCCX8\MP900382792[1].jpg"/>
          <p:cNvPicPr/>
          <p:nvPr/>
        </p:nvPicPr>
        <p:blipFill>
          <a:blip r:embed="rId2"/>
          <a:stretch/>
        </p:blipFill>
        <p:spPr>
          <a:xfrm>
            <a:off x="1219320" y="4267080"/>
            <a:ext cx="266688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osed Circui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914400" y="1784520"/>
            <a:ext cx="2743200" cy="30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 closed connection path for energy to flow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9" name="Picture 1" descr="C:\Documents and Settings\Melissa Cole\Local Settings\Temporary Internet Files\Content.IE5\QO8CVH9S\MC900432643[1].png"/>
          <p:cNvPicPr/>
          <p:nvPr/>
        </p:nvPicPr>
        <p:blipFill>
          <a:blip r:embed="rId1"/>
          <a:stretch/>
        </p:blipFill>
        <p:spPr>
          <a:xfrm>
            <a:off x="4419720" y="1981080"/>
            <a:ext cx="1460520" cy="12016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3" descr="C:\Documents and Settings\Melissa Cole\Local Settings\Temporary Internet Files\Content.IE5\DL2NCCX8\MC900432648[1].png"/>
          <p:cNvPicPr/>
          <p:nvPr/>
        </p:nvPicPr>
        <p:blipFill>
          <a:blip r:embed="rId2"/>
          <a:stretch/>
        </p:blipFill>
        <p:spPr>
          <a:xfrm rot="6413400">
            <a:off x="7101360" y="3309120"/>
            <a:ext cx="933480" cy="1135080"/>
          </a:xfrm>
          <a:prstGeom prst="rect">
            <a:avLst/>
          </a:prstGeom>
          <a:ln w="0">
            <a:noFill/>
          </a:ln>
        </p:spPr>
      </p:pic>
      <p:sp>
        <p:nvSpPr>
          <p:cNvPr id="451" name="Arc 4"/>
          <p:cNvSpPr/>
          <p:nvPr/>
        </p:nvSpPr>
        <p:spPr>
          <a:xfrm>
            <a:off x="5767560" y="2462040"/>
            <a:ext cx="1554120" cy="128124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Arc 5"/>
          <p:cNvSpPr/>
          <p:nvPr/>
        </p:nvSpPr>
        <p:spPr>
          <a:xfrm rot="10104000">
            <a:off x="5695560" y="2544840"/>
            <a:ext cx="1781280" cy="127008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914400" y="1784520"/>
            <a:ext cx="77724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49200" indent="-2912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steel dragon 2000 is the longest roller coaster in the world and is also the world’s tallest complete circle coaster at 318 ft. off the ground!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Insulator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343040" y="1523880"/>
            <a:ext cx="35053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Object that slows down the flow of energy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6" name="Picture 7" descr="C:\Documents and Settings\Melissa Cole\Local Settings\Temporary Internet Files\Content.IE5\QO8CVH9S\MP900406539[1].jpg"/>
          <p:cNvPicPr/>
          <p:nvPr/>
        </p:nvPicPr>
        <p:blipFill>
          <a:blip r:embed="rId1"/>
          <a:stretch/>
        </p:blipFill>
        <p:spPr>
          <a:xfrm>
            <a:off x="914400" y="1676520"/>
            <a:ext cx="322416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837720" y="456840"/>
            <a:ext cx="44960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rubber or plastic on an electrical cord provides an 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insulator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 for the wires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s is a good thing! You don’t get shocked when you plug something in!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8" name="Picture 4" descr="C:\Documents and Settings\Melissa Cole\Local Settings\Temporary Internet Files\Content.IE5\DL2NCCX8\MC900384314[1].wmf"/>
          <p:cNvPicPr/>
          <p:nvPr/>
        </p:nvPicPr>
        <p:blipFill>
          <a:blip r:embed="rId1"/>
          <a:stretch/>
        </p:blipFill>
        <p:spPr>
          <a:xfrm>
            <a:off x="5257800" y="1752480"/>
            <a:ext cx="33940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ductor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85840" y="2133360"/>
            <a:ext cx="2971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Object that easily allows the flow of energy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1" name="Picture 6" descr="C:\Documents and Settings\Melissa Cole\Local Settings\Temporary Internet Files\Content.IE5\QO8CVH9S\MP900427697[1].jpg"/>
          <p:cNvPicPr/>
          <p:nvPr/>
        </p:nvPicPr>
        <p:blipFill>
          <a:blip r:embed="rId1"/>
          <a:stretch/>
        </p:blipFill>
        <p:spPr>
          <a:xfrm>
            <a:off x="762120" y="1600200"/>
            <a:ext cx="297972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609480" y="3045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ightening Rods are an excellent example of conductors. They are made of metal and allow the energy flow of a lightening strike to go underground to a conductive grid buried below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3" name="Picture 4" descr="C:\Documents and Settings\Melissa Cole\Local Settings\Temporary Internet Files\Content.IE5\1UY8GMUX\MP910218826[1].jpg"/>
          <p:cNvPicPr/>
          <p:nvPr/>
        </p:nvPicPr>
        <p:blipFill>
          <a:blip r:embed="rId1"/>
          <a:stretch/>
        </p:blipFill>
        <p:spPr>
          <a:xfrm>
            <a:off x="3505320" y="2438280"/>
            <a:ext cx="5867280" cy="391824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4"/>
          <p:cNvSpPr/>
          <p:nvPr/>
        </p:nvSpPr>
        <p:spPr>
          <a:xfrm>
            <a:off x="609480" y="2666880"/>
            <a:ext cx="26672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is also a good conductor of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ctric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and your body is made up of 60%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nergy Sourc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85840" y="2819160"/>
            <a:ext cx="4800600" cy="14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here energy comes fro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7" name="Picture 4" descr="C:\Documents and Settings\Melissa Cole\Local Settings\Temporary Internet Files\Content.IE5\1UY8GMUX\MC900432643[1].png"/>
          <p:cNvPicPr/>
          <p:nvPr/>
        </p:nvPicPr>
        <p:blipFill>
          <a:blip r:embed="rId1"/>
          <a:stretch/>
        </p:blipFill>
        <p:spPr>
          <a:xfrm>
            <a:off x="990720" y="1752480"/>
            <a:ext cx="3352680" cy="335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lectricity travels at the speed of light - more than 186,000 miles per second!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9" name="Picture 4" descr="C:\Documents and Settings\Melissa Cole\Local Settings\Temporary Internet Files\Content.IE5\QO8CVH9S\MP900401465[1].jpg"/>
          <p:cNvPicPr/>
          <p:nvPr/>
        </p:nvPicPr>
        <p:blipFill>
          <a:blip r:embed="rId1"/>
          <a:stretch/>
        </p:blipFill>
        <p:spPr>
          <a:xfrm>
            <a:off x="1066680" y="312408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witch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914040" y="1784520"/>
            <a:ext cx="3886200" cy="35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 piece  that allows you to stop and start the energy flow by either breaking or connecting a circui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2" name="Picture 8" descr=""/>
          <p:cNvPicPr/>
          <p:nvPr/>
        </p:nvPicPr>
        <p:blipFill>
          <a:blip r:embed="rId1"/>
          <a:stretch/>
        </p:blipFill>
        <p:spPr>
          <a:xfrm rot="16200000">
            <a:off x="5163480" y="1999440"/>
            <a:ext cx="392256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762120" y="4876560"/>
            <a:ext cx="7772400" cy="17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 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f you had a lamp on the moon connected to a switch in your house, it would take only 1.28 seconds for it to light up 238,857 miles away!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4" name="Picture 4" descr="C:\Documents and Settings\Melissa Cole\Local Settings\Temporary Internet Files\Content.IE5\VYH67POE\MP900442298[1].jpg"/>
          <p:cNvPicPr/>
          <p:nvPr/>
        </p:nvPicPr>
        <p:blipFill>
          <a:blip r:embed="rId1"/>
          <a:srcRect l="0" t="0" r="0" b="35256"/>
          <a:stretch/>
        </p:blipFill>
        <p:spPr>
          <a:xfrm>
            <a:off x="838080" y="0"/>
            <a:ext cx="4010040" cy="35812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" descr="C:\Documents and Settings\Melissa Cole\Local Settings\Temporary Internet Files\Content.IE5\QO8CVH9S\MP900400500[1].jpg"/>
          <p:cNvPicPr/>
          <p:nvPr/>
        </p:nvPicPr>
        <p:blipFill>
          <a:blip r:embed="rId2"/>
          <a:stretch/>
        </p:blipFill>
        <p:spPr>
          <a:xfrm>
            <a:off x="6553080" y="2343240"/>
            <a:ext cx="1962360" cy="2454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2T16:02:50Z</dcterms:created>
  <dc:creator>Melissa Cole</dc:creator>
  <dc:description/>
  <dc:language>en-US</dc:language>
  <cp:lastModifiedBy>Carrie</cp:lastModifiedBy>
  <dcterms:modified xsi:type="dcterms:W3CDTF">2012-06-13T15:47:17Z</dcterms:modified>
  <cp:revision>12</cp:revision>
  <dc:subject/>
  <dc:title>Electrical Circuits</dc:title>
</cp:coreProperties>
</file>