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52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54.png" ContentType="image/pn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8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91D-ABA5-4EDB-9CFC-7CF8D05D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AE0-A6C1-48AB-B2F2-E6002793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507-17AE-4259-910A-03E0DB9F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9FE-F2F3-4BB2-B8E2-A172E18F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FA4-8307-41B7-988F-0EF95F61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AE8-4377-4522-A97A-FD41244A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DD7-F301-43A3-92AC-8263D93E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A5A-B167-470C-8F8E-98538084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1B3-2FA8-4865-8C2F-3D631846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12D-0ACD-45FE-886D-55AA62C3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0EF-AEF5-423F-8C07-F0D4F32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F13-0D12-406D-990F-D8E6FE6B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A0F3-9E81-4C0A-A6A8-227795503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hyperlink" Target="http://www.thedrawbot.com/files/2011/12/coloring-true-owl.jpg" TargetMode="External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31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image" Target="../media/image62.jpeg"/><Relationship Id="rId11" Type="http://schemas.openxmlformats.org/officeDocument/2006/relationships/image" Target="../media/image63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t1.gstatic.com/images?q=tbn:ANd9GcQenl-ucN1DL_vhUuHI_UyW7UVr_25d8b9LfBFMa0Kh_r8XPPR6"/>
          <p:cNvPicPr/>
          <p:nvPr/>
        </p:nvPicPr>
        <p:blipFill>
          <a:blip r:embed="rId1"/>
          <a:stretch/>
        </p:blipFill>
        <p:spPr>
          <a:xfrm>
            <a:off x="6319800" y="2819520"/>
            <a:ext cx="3317760" cy="2562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esert With Cactus coloring page"/>
          <p:cNvPicPr/>
          <p:nvPr/>
        </p:nvPicPr>
        <p:blipFill>
          <a:blip r:embed="rId2"/>
          <a:stretch/>
        </p:blipFill>
        <p:spPr>
          <a:xfrm>
            <a:off x="0" y="24382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4194720" y="281952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://t1.gstatic.com/images?q=tbn:ANd9GcQIg3aCnPM3szLngDEST6PPCBlmc1Zn3aTTceB-TtBY9rsqMQVGoA"/>
          <p:cNvPicPr/>
          <p:nvPr/>
        </p:nvPicPr>
        <p:blipFill>
          <a:blip r:embed="rId3"/>
          <a:stretch/>
        </p:blipFill>
        <p:spPr>
          <a:xfrm>
            <a:off x="6724800" y="4962600"/>
            <a:ext cx="2419200" cy="189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t0.gstatic.com/images?q=tbn:ANd9GcTh5c1CNXAKr4WpsKu9j20MVsfg1xfoEl9Q2P0b_KyM_tbbfmX35A"/>
          <p:cNvPicPr/>
          <p:nvPr/>
        </p:nvPicPr>
        <p:blipFill>
          <a:blip r:embed="rId4"/>
          <a:stretch/>
        </p:blipFill>
        <p:spPr>
          <a:xfrm>
            <a:off x="0" y="0"/>
            <a:ext cx="160020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t3.gstatic.com/images?q=tbn:ANd9GcTijbg6Mh65SYGUCOJNGUjVF08M1acCpzUv0oI7MwAp8OmxNQBW"/>
          <p:cNvPicPr/>
          <p:nvPr/>
        </p:nvPicPr>
        <p:blipFill>
          <a:blip r:embed="rId5"/>
          <a:stretch/>
        </p:blipFill>
        <p:spPr>
          <a:xfrm>
            <a:off x="6672240" y="0"/>
            <a:ext cx="247176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http://t3.gstatic.com/images?q=tbn:ANd9GcTqFSUeRVsMEpcDlVPHR7cJOrO0kZGnJwJ3eOzA7sNHWAlKZxwV0w"/>
          <p:cNvPicPr/>
          <p:nvPr/>
        </p:nvPicPr>
        <p:blipFill>
          <a:blip r:embed="rId6"/>
          <a:stretch/>
        </p:blipFill>
        <p:spPr>
          <a:xfrm>
            <a:off x="4495680" y="4267080"/>
            <a:ext cx="208296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http://t3.gstatic.com/images?q=tbn:ANd9GcREM-z5F1ZgpDhnlEKTwdHF4e78-fNL6yo8auc61V6MIfnIG3T2"/>
          <p:cNvPicPr/>
          <p:nvPr/>
        </p:nvPicPr>
        <p:blipFill>
          <a:blip r:embed="rId7"/>
          <a:stretch/>
        </p:blipFill>
        <p:spPr>
          <a:xfrm>
            <a:off x="1828800" y="0"/>
            <a:ext cx="2066760" cy="22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http://t3.gstatic.com/images?q=tbn:ANd9GcQE_HIoZt-HS7GlujNMnw2uSsxneTmwL0IJfxMibmOhmTTr51_nmw"/>
          <p:cNvPicPr/>
          <p:nvPr/>
        </p:nvPicPr>
        <p:blipFill>
          <a:blip r:embed="rId8"/>
          <a:stretch/>
        </p:blipFill>
        <p:spPr>
          <a:xfrm>
            <a:off x="4419720" y="228600"/>
            <a:ext cx="2114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194720" y="281952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t3.gstatic.com/images?q=tbn:ANd9GcQyR6hABhJIPxjquHOPNGUtgpjQF2q8wjkWDOWwkTo7mAI08IXh"/>
          <p:cNvPicPr/>
          <p:nvPr/>
        </p:nvPicPr>
        <p:blipFill>
          <a:blip r:embed="rId1"/>
          <a:stretch/>
        </p:blipFill>
        <p:spPr>
          <a:xfrm>
            <a:off x="0" y="5022720"/>
            <a:ext cx="1523880" cy="155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t1.gstatic.com/images?q=tbn:ANd9GcRiTOxvJMZH0_y5OR4vvvn1UOi_n_NbxPP-PUeKMkNZM1hBhfu5xQ"/>
          <p:cNvPicPr/>
          <p:nvPr/>
        </p:nvPicPr>
        <p:blipFill>
          <a:blip r:embed="rId2"/>
          <a:stretch/>
        </p:blipFill>
        <p:spPr>
          <a:xfrm>
            <a:off x="1905120" y="5354640"/>
            <a:ext cx="1523880" cy="150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t3.gstatic.com/images?q=tbn:ANd9GcSw9EJzbnrJRyEpnKaXA2tmvuvnWR3-_zbfyfKHWzqk4AvMft_M"/>
          <p:cNvPicPr/>
          <p:nvPr/>
        </p:nvPicPr>
        <p:blipFill>
          <a:blip r:embed="rId3"/>
          <a:stretch/>
        </p:blipFill>
        <p:spPr>
          <a:xfrm>
            <a:off x="388620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t2.gstatic.com/images?q=tbn:ANd9GcQtt59arSlK-gsmA00IaZVR1EHO6PmYeDcldhuGOZrTRZq6thr_WA"/>
          <p:cNvPicPr/>
          <p:nvPr/>
        </p:nvPicPr>
        <p:blipFill>
          <a:blip r:embed="rId4"/>
          <a:stretch/>
        </p:blipFill>
        <p:spPr>
          <a:xfrm>
            <a:off x="152280" y="3124080"/>
            <a:ext cx="2286000" cy="14385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/>
          <p:cNvSpPr/>
          <p:nvPr/>
        </p:nvSpPr>
        <p:spPr>
          <a:xfrm>
            <a:off x="63360" y="-1096920"/>
            <a:ext cx="2000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63360" y="-1096920"/>
            <a:ext cx="2000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63360" y="-1096920"/>
            <a:ext cx="2000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6" descr="http://t2.gstatic.com/images?q=tbn:ANd9GcQSr-2SCiQAnVbeMqVHyvH-pZcXg-6hgNQXQMWs1h7WfqC5qv78ug"/>
          <p:cNvPicPr/>
          <p:nvPr/>
        </p:nvPicPr>
        <p:blipFill>
          <a:blip r:embed="rId5"/>
          <a:stretch/>
        </p:blipFill>
        <p:spPr>
          <a:xfrm>
            <a:off x="6629400" y="449568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http://t2.gstatic.com/images?q=tbn:ANd9GcSV5xKNW6Rq0sQpj3ubGOAWgduq4O15yyDLFRs6R4yxySNiGbrg"/>
          <p:cNvPicPr/>
          <p:nvPr/>
        </p:nvPicPr>
        <p:blipFill>
          <a:blip r:embed="rId6"/>
          <a:stretch/>
        </p:blipFill>
        <p:spPr>
          <a:xfrm>
            <a:off x="6324480" y="22096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orest coloring page"/>
          <p:cNvPicPr/>
          <p:nvPr/>
        </p:nvPicPr>
        <p:blipFill>
          <a:blip r:embed="rId1"/>
          <a:stretch/>
        </p:blipFill>
        <p:spPr>
          <a:xfrm>
            <a:off x="0" y="29718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193280" y="289548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t0.gstatic.com/images?q=tbn:ANd9GcSIRW6hyMIQNMv7S_OgqipivYfKO88vQAKUA_5s0xjspNEUUOpD"/>
          <p:cNvPicPr/>
          <p:nvPr/>
        </p:nvPicPr>
        <p:blipFill>
          <a:blip r:embed="rId2"/>
          <a:stretch/>
        </p:blipFill>
        <p:spPr>
          <a:xfrm>
            <a:off x="5791320" y="4896000"/>
            <a:ext cx="3352680" cy="196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t2.gstatic.com/images?q=tbn:ANd9GcSlIarBj7DlXFmA0vpwZPwB2GMzea79wVSeQQpjhNKdGNRaZy5U"/>
          <p:cNvPicPr/>
          <p:nvPr/>
        </p:nvPicPr>
        <p:blipFill>
          <a:blip r:embed="rId3"/>
          <a:stretch/>
        </p:blipFill>
        <p:spPr>
          <a:xfrm>
            <a:off x="6934320" y="1828800"/>
            <a:ext cx="2209680" cy="312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t0.gstatic.com/images?q=tbn:ANd9GcTIanWm143KSzOML1w67nhnWiWI7d5XUCkzgfb0hLeWHvRFs9yU"/>
          <p:cNvPicPr/>
          <p:nvPr/>
        </p:nvPicPr>
        <p:blipFill>
          <a:blip r:embed="rId4"/>
          <a:stretch/>
        </p:blipFill>
        <p:spPr>
          <a:xfrm>
            <a:off x="0" y="0"/>
            <a:ext cx="1838160" cy="24955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63360" y="-541440"/>
            <a:ext cx="8766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2" descr="http://t0.gstatic.com/images?q=tbn:ANd9GcRW1CEHHQdYmStSWlX2LJqi54p3whJuMHV9bNvucGfnzsVAfYPzlw"/>
          <p:cNvPicPr/>
          <p:nvPr/>
        </p:nvPicPr>
        <p:blipFill>
          <a:blip r:embed="rId5"/>
          <a:stretch/>
        </p:blipFill>
        <p:spPr>
          <a:xfrm>
            <a:off x="2286000" y="76212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http://t2.gstatic.com/images?q=tbn:ANd9GcQcmdfM9td52lmSowV3TO4Vjd-KUoqvaPk2yWgJyt0q3QBE4mz8"/>
          <p:cNvPicPr/>
          <p:nvPr/>
        </p:nvPicPr>
        <p:blipFill>
          <a:blip r:embed="rId6"/>
          <a:stretch/>
        </p:blipFill>
        <p:spPr>
          <a:xfrm>
            <a:off x="3886200" y="3657600"/>
            <a:ext cx="2028960" cy="225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ttp://t1.gstatic.com/images?q=tbn:ANd9GcTGS5-zsg1m5qiz_GtsMfDKEZ4CIteSXpPY7-0m9BR4OPxY4LZOXw"/>
          <p:cNvPicPr/>
          <p:nvPr/>
        </p:nvPicPr>
        <p:blipFill>
          <a:blip r:embed="rId7"/>
          <a:stretch/>
        </p:blipFill>
        <p:spPr>
          <a:xfrm>
            <a:off x="5181480" y="152280"/>
            <a:ext cx="19144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193280" y="289548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t1.gstatic.com/images?q=tbn:ANd9GcRlliv38GzuiEhw75ZX-9BkjnO2AmZA_gOvj51sBtDDFZK_SL2y"/>
          <p:cNvPicPr/>
          <p:nvPr/>
        </p:nvPicPr>
        <p:blipFill>
          <a:blip r:embed="rId1"/>
          <a:stretch/>
        </p:blipFill>
        <p:spPr>
          <a:xfrm>
            <a:off x="0" y="5410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63360" y="-10288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63360" y="-10288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63360" y="-533520"/>
            <a:ext cx="1143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0" descr="http://t2.gstatic.com/images?q=tbn:ANd9GcQY2sogGrwvbJaaoxEGh03jge1YJUkE_HHDXRQXu2evzSnNJ-Wa"/>
          <p:cNvPicPr/>
          <p:nvPr/>
        </p:nvPicPr>
        <p:blipFill>
          <a:blip r:embed="rId2"/>
          <a:stretch/>
        </p:blipFill>
        <p:spPr>
          <a:xfrm>
            <a:off x="2057400" y="5562720"/>
            <a:ext cx="969840" cy="129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t3.gstatic.com/images?q=tbn:ANd9GcQsV6oEdwsXRJhztQjQLT_2-wMfqxixjbxBLWjjeL4FWdT4yHgKIA"/>
          <p:cNvPicPr/>
          <p:nvPr/>
        </p:nvPicPr>
        <p:blipFill>
          <a:blip r:embed="rId3"/>
          <a:stretch/>
        </p:blipFill>
        <p:spPr>
          <a:xfrm>
            <a:off x="3429000" y="484812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t1.gstatic.com/images?q=tbn:ANd9GcSgn1rVbvFv7tolCme4KFKbtcBQG1PqRj8erXrWi7dlN_KKjRX87w"/>
          <p:cNvPicPr/>
          <p:nvPr/>
        </p:nvPicPr>
        <p:blipFill>
          <a:blip r:embed="rId4"/>
          <a:stretch/>
        </p:blipFill>
        <p:spPr>
          <a:xfrm>
            <a:off x="6324480" y="3208320"/>
            <a:ext cx="2819520" cy="364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t3.gstatic.com/images?q=tbn:ANd9GcSLOd_vc7qfxdE85KERf2gEYbRZ3EuRXO_jRkREprmAXSeTG4zH8w"/>
          <p:cNvPicPr/>
          <p:nvPr/>
        </p:nvPicPr>
        <p:blipFill>
          <a:blip r:embed="rId5"/>
          <a:stretch/>
        </p:blipFill>
        <p:spPr>
          <a:xfrm>
            <a:off x="152280" y="28954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http://t1.gstatic.com/images?q=tbn:ANd9GcSKV8gtfHIQX7PHyo1aA-X0OV4oDM1nfJnciKocSHRtCzdtXuVaMA"/>
          <p:cNvPicPr/>
          <p:nvPr/>
        </p:nvPicPr>
        <p:blipFill>
          <a:blip r:embed="rId6"/>
          <a:stretch/>
        </p:blipFill>
        <p:spPr>
          <a:xfrm>
            <a:off x="6638760" y="0"/>
            <a:ext cx="2505240" cy="18194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0"/>
          <p:cNvSpPr/>
          <p:nvPr/>
        </p:nvSpPr>
        <p:spPr>
          <a:xfrm>
            <a:off x="63360" y="-1219320"/>
            <a:ext cx="180036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2" descr="http://t2.gstatic.com/images?q=tbn:ANd9GcTwwZWEZ6Piz11Wt0Y_gW0P2Hdm-eNJR0M1pN7tfn5L9RsgbpusSg"/>
          <p:cNvPicPr/>
          <p:nvPr/>
        </p:nvPicPr>
        <p:blipFill>
          <a:blip r:embed="rId7"/>
          <a:stretch/>
        </p:blipFill>
        <p:spPr>
          <a:xfrm>
            <a:off x="4648320" y="228600"/>
            <a:ext cx="1876320" cy="2428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4" descr="http://t1.gstatic.com/images?q=tbn:ANd9GcTNO6KDwF4BYFWnQv8AjnWY5SIxP9gD-rcT9tdgtRWOfSkYyMiPdA"/>
          <p:cNvPicPr/>
          <p:nvPr/>
        </p:nvPicPr>
        <p:blipFill>
          <a:blip r:embed="rId8"/>
          <a:stretch/>
        </p:blipFill>
        <p:spPr>
          <a:xfrm>
            <a:off x="152280" y="30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http://t1.gstatic.com/images?q=tbn:ANd9GcRlICBNwHGFzo09OPC8e3SbPvE01QZMalmm1Yz3hQxbu7OVnVYIag"/>
          <p:cNvPicPr/>
          <p:nvPr/>
        </p:nvPicPr>
        <p:blipFill>
          <a:blip r:embed="rId9"/>
          <a:stretch/>
        </p:blipFill>
        <p:spPr>
          <a:xfrm>
            <a:off x="2133720" y="457200"/>
            <a:ext cx="2085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129840" y="350532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http://2.bp.blogspot.com/-tDrzPUuUjrE/T8iaXh7nEVI/AAAAAAAAhQI/4cEJQy6-L4Q/s1600/seaweedcoloring.jpg"/>
          <p:cNvPicPr/>
          <p:nvPr/>
        </p:nvPicPr>
        <p:blipFill>
          <a:blip r:embed="rId1"/>
          <a:stretch/>
        </p:blipFill>
        <p:spPr>
          <a:xfrm>
            <a:off x="0" y="0"/>
            <a:ext cx="2146320" cy="303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thumbs.dreamstime.com/thumb_395/1241546172Htf9Sh.jpg"/>
          <p:cNvPicPr/>
          <p:nvPr/>
        </p:nvPicPr>
        <p:blipFill>
          <a:blip r:embed="rId2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www.enchantedlearning.com/alphabet/circlestartingsound/ocean/worksheettiny.GIF"/>
          <p:cNvPicPr/>
          <p:nvPr/>
        </p:nvPicPr>
        <p:blipFill>
          <a:blip r:embed="rId3"/>
          <a:stretch/>
        </p:blipFill>
        <p:spPr>
          <a:xfrm>
            <a:off x="2133720" y="0"/>
            <a:ext cx="2666880" cy="3567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supercoloring.com/wp-content/main/2010_03/coral-reef-coloring-page.jpg"/>
          <p:cNvPicPr/>
          <p:nvPr/>
        </p:nvPicPr>
        <p:blipFill>
          <a:blip r:embed="rId4"/>
          <a:stretch/>
        </p:blipFill>
        <p:spPr>
          <a:xfrm>
            <a:off x="4714920" y="0"/>
            <a:ext cx="4429080" cy="2676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www.supercoloring.com/wp-content/main/2009_01/two-big-whales-and-one-small-whale-coloring-page.gif"/>
          <p:cNvPicPr/>
          <p:nvPr/>
        </p:nvPicPr>
        <p:blipFill>
          <a:blip r:embed="rId5"/>
          <a:stretch/>
        </p:blipFill>
        <p:spPr>
          <a:xfrm>
            <a:off x="0" y="4648320"/>
            <a:ext cx="3451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http://freecoloringpagesite.com/coloring-pics/whale-coloring-picture-1.jpg"/>
          <p:cNvPicPr/>
          <p:nvPr/>
        </p:nvPicPr>
        <p:blipFill>
          <a:blip r:embed="rId1"/>
          <a:stretch/>
        </p:blipFill>
        <p:spPr>
          <a:xfrm>
            <a:off x="5237280" y="0"/>
            <a:ext cx="390672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t2.gstatic.com/images?q=tbn:ANd9GcQK_Ag0_FlgPFFAYfsuPPjI6nWgVTUCKQgaVa5l0lvTzmdE2qeS"/>
          <p:cNvPicPr/>
          <p:nvPr/>
        </p:nvPicPr>
        <p:blipFill>
          <a:blip r:embed="rId2"/>
          <a:stretch/>
        </p:blipFill>
        <p:spPr>
          <a:xfrm>
            <a:off x="0" y="4343400"/>
            <a:ext cx="3222720" cy="23623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1377360" y="396252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http://t3.gstatic.com/images?q=tbn:ANd9GcQU9KN7EhkuJvN6QtNc9zHv6aE-PXU7i1L_e9w05HDHddqRzdjU"/>
          <p:cNvPicPr/>
          <p:nvPr/>
        </p:nvPicPr>
        <p:blipFill>
          <a:blip r:embed="rId3"/>
          <a:stretch/>
        </p:blipFill>
        <p:spPr>
          <a:xfrm>
            <a:off x="3429000" y="4419720"/>
            <a:ext cx="2981160" cy="223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t1.gstatic.com/images?q=tbn:ANd9GcTRzfZzIQJ0Qfc0nh-0zTsBoXtz4LlLqxr5uKFDLQXgEcY0AL88"/>
          <p:cNvPicPr/>
          <p:nvPr/>
        </p:nvPicPr>
        <p:blipFill>
          <a:blip r:embed="rId4"/>
          <a:stretch/>
        </p:blipFill>
        <p:spPr>
          <a:xfrm>
            <a:off x="0" y="1523880"/>
            <a:ext cx="2624040" cy="230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t2.gstatic.com/images?q=tbn:ANd9GcREeH8uWGNbYvnxWOEsdGypWqphGEjFj9QdI2Ed4bdOoVHT0o3mdw"/>
          <p:cNvPicPr/>
          <p:nvPr/>
        </p:nvPicPr>
        <p:blipFill>
          <a:blip r:embed="rId5"/>
          <a:stretch/>
        </p:blipFill>
        <p:spPr>
          <a:xfrm>
            <a:off x="3276720" y="236232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t2.gstatic.com/images?q=tbn:ANd9GcRUWEPYBOoN3foH3uVGZF0DVj-vqe75q8AdrcLLabnQSTEpdxeSqA"/>
          <p:cNvPicPr/>
          <p:nvPr/>
        </p:nvPicPr>
        <p:blipFill>
          <a:blip r:embed="rId6"/>
          <a:stretch/>
        </p:blipFill>
        <p:spPr>
          <a:xfrm>
            <a:off x="6781680" y="3054240"/>
            <a:ext cx="2362320" cy="380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http://t1.gstatic.com/images?q=tbn:ANd9GcQKnhfBn2bCungnsICDerPkaJ7i_zDzq8IoitI87MZiiocFHlkT"/>
          <p:cNvPicPr/>
          <p:nvPr/>
        </p:nvPicPr>
        <p:blipFill>
          <a:blip r:embed="rId7"/>
          <a:stretch/>
        </p:blipFill>
        <p:spPr>
          <a:xfrm>
            <a:off x="2514600" y="0"/>
            <a:ext cx="2543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http://www.thedrawbot.com/files/2011/12/coloring-swan.jpg"/>
          <p:cNvPicPr/>
          <p:nvPr/>
        </p:nvPicPr>
        <p:blipFill>
          <a:blip r:embed="rId1"/>
          <a:stretch/>
        </p:blipFill>
        <p:spPr>
          <a:xfrm>
            <a:off x="4724280" y="354348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prek-8.com/coloring/images/d2.jpg"/>
          <p:cNvPicPr/>
          <p:nvPr/>
        </p:nvPicPr>
        <p:blipFill>
          <a:blip r:embed="rId2"/>
          <a:stretch/>
        </p:blipFill>
        <p:spPr>
          <a:xfrm>
            <a:off x="0" y="0"/>
            <a:ext cx="5486400" cy="390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picturesforcoloring.com/wp-content/uploads/2012/05/zoo-coloring-pages-06.gif"/>
          <p:cNvPicPr/>
          <p:nvPr/>
        </p:nvPicPr>
        <p:blipFill>
          <a:blip r:embed="rId3"/>
          <a:stretch/>
        </p:blipFill>
        <p:spPr>
          <a:xfrm>
            <a:off x="0" y="4267080"/>
            <a:ext cx="5568840" cy="259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coloring true-ow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0"/>
            <a:ext cx="2438280" cy="3448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1761120" y="411480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www.toddler-activities-and-tips.com/image-files/farm-animals-coloring-pictures-5.gif"/>
          <p:cNvPicPr/>
          <p:nvPr/>
        </p:nvPicPr>
        <p:blipFill>
          <a:blip r:embed="rId1"/>
          <a:stretch/>
        </p:blipFill>
        <p:spPr>
          <a:xfrm>
            <a:off x="0" y="428004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www.animal-coloring-pages.com/wp-content/uploads/2009/08/fish-coloring-pages-3.gif"/>
          <p:cNvPicPr/>
          <p:nvPr/>
        </p:nvPicPr>
        <p:blipFill>
          <a:blip r:embed="rId2"/>
          <a:stretch/>
        </p:blipFill>
        <p:spPr>
          <a:xfrm>
            <a:off x="2438280" y="3962520"/>
            <a:ext cx="20368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coloringpages.me/wp-content/uploads/2011/11/Dragonfly-Coloring-Pages-261x336.jpg"/>
          <p:cNvPicPr/>
          <p:nvPr/>
        </p:nvPicPr>
        <p:blipFill>
          <a:blip r:embed="rId3"/>
          <a:stretch/>
        </p:blipFill>
        <p:spPr>
          <a:xfrm>
            <a:off x="5486400" y="5157720"/>
            <a:ext cx="1143000" cy="147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2.bp.blogspot.com/-tDrzPUuUjrE/T8iaXh7nEVI/AAAAAAAAhQI/4cEJQy6-L4Q/s1600/seaweedcoloring.jpg"/>
          <p:cNvPicPr/>
          <p:nvPr/>
        </p:nvPicPr>
        <p:blipFill>
          <a:blip r:embed="rId4"/>
          <a:stretch/>
        </p:blipFill>
        <p:spPr>
          <a:xfrm>
            <a:off x="0" y="0"/>
            <a:ext cx="2146320" cy="30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http://t0.gstatic.com/images?q=tbn:ANd9GcTJLs-0xX2w2_IA2WCD0syFQm5bvDw25A2rTRyXeVmjAOwCuMeYJCDiDF4hog"/>
          <p:cNvPicPr/>
          <p:nvPr/>
        </p:nvPicPr>
        <p:blipFill>
          <a:blip r:embed="rId5"/>
          <a:stretch/>
        </p:blipFill>
        <p:spPr>
          <a:xfrm>
            <a:off x="2362320" y="15228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3437640" y="327672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2" descr="http://www.sweetdreamsquiltstudio.com/images/lily%20pad%20flower.JPG"/>
          <p:cNvPicPr/>
          <p:nvPr/>
        </p:nvPicPr>
        <p:blipFill>
          <a:blip r:embed="rId6"/>
          <a:stretch/>
        </p:blipFill>
        <p:spPr>
          <a:xfrm>
            <a:off x="5410080" y="0"/>
            <a:ext cx="3486240" cy="2073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http://www.coloring-pages-kids.com/coloring-pages/animal-coloring-pages/turtles-coloring-pages/turtles-coloring-pages-images/turtle-coloring-page-04.gif"/>
          <p:cNvPicPr/>
          <p:nvPr/>
        </p:nvPicPr>
        <p:blipFill>
          <a:blip r:embed="rId7"/>
          <a:stretch/>
        </p:blipFill>
        <p:spPr>
          <a:xfrm>
            <a:off x="5867280" y="2514600"/>
            <a:ext cx="29718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Iceberg coloring page"/>
          <p:cNvPicPr/>
          <p:nvPr/>
        </p:nvPicPr>
        <p:blipFill>
          <a:blip r:embed="rId1"/>
          <a:stretch/>
        </p:blipFill>
        <p:spPr>
          <a:xfrm>
            <a:off x="0" y="32004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3511080" y="3809880"/>
            <a:ext cx="12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http://www.coloringpages7.com/Images/animal-coloring-pages/whale-coloring-pages/humpback-whale-coloring-pages-7-com.gif"/>
          <p:cNvPicPr/>
          <p:nvPr/>
        </p:nvPicPr>
        <p:blipFill>
          <a:blip r:embed="rId2"/>
          <a:stretch/>
        </p:blipFill>
        <p:spPr>
          <a:xfrm>
            <a:off x="6746760" y="4267080"/>
            <a:ext cx="2397240" cy="2590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t2.gstatic.com/images?q=tbn:ANd9GcRyuIDShylaQ18JHo-DgI-m515y-N3flhR6-vAD0yTIeAtaNVGe"/>
          <p:cNvPicPr/>
          <p:nvPr/>
        </p:nvPicPr>
        <p:blipFill>
          <a:blip r:embed="rId3"/>
          <a:stretch/>
        </p:blipFill>
        <p:spPr>
          <a:xfrm>
            <a:off x="320040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t0.gstatic.com/images?q=tbn:ANd9GcSII_GHwJJug7wtVJcCNQtlBuTZAUSPZ5BqUVwpcOCKrLjQCdSA7A"/>
          <p:cNvPicPr/>
          <p:nvPr/>
        </p:nvPicPr>
        <p:blipFill>
          <a:blip r:embed="rId4"/>
          <a:stretch/>
        </p:blipFill>
        <p:spPr>
          <a:xfrm>
            <a:off x="8115480" y="3581280"/>
            <a:ext cx="1028520" cy="146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t2.gstatic.com/images?q=tbn:ANd9GcRLakmRAEyGCuk4wXzcV-ii_d2wQhHTQCUFiEHTH6BmkgmV9XIwKQ"/>
          <p:cNvPicPr/>
          <p:nvPr/>
        </p:nvPicPr>
        <p:blipFill>
          <a:blip r:embed="rId5"/>
          <a:stretch/>
        </p:blipFill>
        <p:spPr>
          <a:xfrm>
            <a:off x="7343640" y="2209680"/>
            <a:ext cx="1257480" cy="14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t3.gstatic.com/images?q=tbn:ANd9GcRLMF20vOUW3tcCOdl4xLCUfFuknXZY_AaDqIXr7LbTGlI_qoZVYQ"/>
          <p:cNvPicPr/>
          <p:nvPr/>
        </p:nvPicPr>
        <p:blipFill>
          <a:blip r:embed="rId6"/>
          <a:stretch/>
        </p:blipFill>
        <p:spPr>
          <a:xfrm>
            <a:off x="0" y="0"/>
            <a:ext cx="2057400" cy="1166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http://t1.gstatic.com/images?q=tbn:ANd9GcQRcDXi9T4j4QM8aN2ZvsvPxYnu5azxdErXBPGFKZceIaTfKHijrQ"/>
          <p:cNvPicPr/>
          <p:nvPr/>
        </p:nvPicPr>
        <p:blipFill>
          <a:blip r:embed="rId7"/>
          <a:stretch/>
        </p:blipFill>
        <p:spPr>
          <a:xfrm>
            <a:off x="4191120" y="2286000"/>
            <a:ext cx="2743200" cy="1666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http://t1.gstatic.com/images?q=tbn:ANd9GcT4u78QVNybio8-efK_lzG3lRmjfS2xSRCW76VhqHZADqGnigaF"/>
          <p:cNvPicPr/>
          <p:nvPr/>
        </p:nvPicPr>
        <p:blipFill>
          <a:blip r:embed="rId8"/>
          <a:stretch/>
        </p:blipFill>
        <p:spPr>
          <a:xfrm>
            <a:off x="6553080" y="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http://t0.gstatic.com/images?q=tbn:ANd9GcSiUre35dC1vcEplZLOh3T7YeEVyL-A3B-wYPaVl2x_srtw3tlf"/>
          <p:cNvPicPr/>
          <p:nvPr/>
        </p:nvPicPr>
        <p:blipFill>
          <a:blip r:embed="rId9"/>
          <a:stretch/>
        </p:blipFill>
        <p:spPr>
          <a:xfrm>
            <a:off x="3429000" y="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http://t1.gstatic.com/images?q=tbn:ANd9GcSXPX1ED09ENulEx178CYws0qweTsNrUZ81d8FkZrqLqQQCrbHlVw"/>
          <p:cNvPicPr/>
          <p:nvPr/>
        </p:nvPicPr>
        <p:blipFill>
          <a:blip r:embed="rId10"/>
          <a:stretch/>
        </p:blipFill>
        <p:spPr>
          <a:xfrm>
            <a:off x="228600" y="1281240"/>
            <a:ext cx="1676520" cy="188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http://t1.gstatic.com/images?q=tbn:ANd9GcRUowV1ouKQGWYLibMtyJbZYXMlvU7lYhyzFRtQBata811HmHtKVA"/>
          <p:cNvPicPr/>
          <p:nvPr/>
        </p:nvPicPr>
        <p:blipFill>
          <a:blip r:embed="rId11"/>
          <a:stretch/>
        </p:blipFill>
        <p:spPr>
          <a:xfrm>
            <a:off x="4800600" y="4267080"/>
            <a:ext cx="2001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14:26:31Z</dcterms:created>
  <dc:creator>user</dc:creator>
  <dc:description/>
  <dc:language>en-US</dc:language>
  <cp:lastModifiedBy>user</cp:lastModifiedBy>
  <dcterms:modified xsi:type="dcterms:W3CDTF">2012-06-14T15:13:44Z</dcterms:modified>
  <cp:revision>6</cp:revision>
  <dc:subject/>
  <dc:title>Slide 1</dc:title>
</cp:coreProperties>
</file>