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29.png" ContentType="image/png"/>
  <Override PartName="/ppt/media/image30.jpeg" ContentType="image/jpeg"/>
  <Override PartName="/ppt/media/CHIMES.WAV" ContentType="audio/x-wav"/>
  <Override PartName="/ppt/media/image3.jpeg" ContentType="image/jpeg"/>
  <Override PartName="/ppt/media/image24.jpeg" ContentType="image/jpeg"/>
  <Override PartName="/ppt/media/camera.wav" ContentType="audio/x-wav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9.jpeg" ContentType="image/jpeg"/>
  <Override PartName="/ppt/media/CAMERA.WAV" ContentType="audio/x-wav"/>
  <Override PartName="/ppt/media/image12.png" ContentType="image/png"/>
  <Override PartName="/ppt/media/image13.png" ContentType="image/pn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F9B-41AA-42B4-9048-A9FB544F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E2D-D6D0-4F83-A95D-B00673904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9AA-0CF0-4E16-8F65-26EDE9B7F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D39-97CE-45D6-AB88-DE7A8A62A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38D-6BA0-4BDB-BDC5-F29D3E1FC2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75B6-BEB1-4157-BA4D-DA969C6D9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679-F9D5-428C-B48C-3CB08F4C4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4EC-D0C3-4C9A-870B-1F06B73C3D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A22-5869-44E5-97CB-DD0FACFDD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lid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our bloody yea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ick to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D67A-C545-44C6-80ED-93431FACF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C4D-277D-4CE9-BEB6-9FF1333FA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22D-E389-499C-8C2C-320A9B3B1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92C-32F6-4A02-9F98-E98190222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C6C0-5B30-4604-9ACA-BD2C9D196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CE07-E995-47D8-99D9-1BE8794386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65FC-7E9B-4424-9389-21834AC17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CA7C-BF71-4351-BA08-8DE0DEC07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FD4-8360-4540-B39E-4343C266E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96F-8FC8-427A-82E4-97D61332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022-4EE1-4892-AD96-87E16DD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763-088E-4985-9D4E-49BEC348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41C-73AE-446C-AA9B-E296D889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5C0-B40E-4069-B4A6-0092FCCE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E84-8CBD-400C-BD14-81B89175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F51-1ECF-4EBE-95D6-016AB8CD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3AB-C9F7-47A4-B045-A3ADA41B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2D7-53C7-4A68-99D6-B46A586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A40-3719-41BB-965F-3D288A2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F86-4492-4A58-BA30-9DCC79A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841-3DF6-4A1F-9AB1-DD56E52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9C0-6B96-4374-80CE-C0E15ED31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natdiv"/>
          <p:cNvPicPr/>
          <p:nvPr/>
        </p:nvPicPr>
        <p:blipFill>
          <a:blip r:embed="rId2"/>
          <a:stretch/>
        </p:blipFill>
        <p:spPr>
          <a:xfrm>
            <a:off x="0" y="1828800"/>
            <a:ext cx="8839080" cy="3117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600200" y="54514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1861-1865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971800" y="1676160"/>
            <a:ext cx="6067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at from these honored dead we take increased devotion to that cause for which they gave the last full measure of devotion -- that we here highly resolve that these dead shall not have died in vain -- that this nation, under God, shall have a new birth of freedom -- and that government of the people, by the people, for the people, shall not perish from the earth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e Linco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gettysburg"/>
          <p:cNvPicPr/>
          <p:nvPr/>
        </p:nvPicPr>
        <p:blipFill>
          <a:blip r:embed="rId2"/>
          <a:stretch/>
        </p:blipFill>
        <p:spPr>
          <a:xfrm>
            <a:off x="0" y="2438280"/>
            <a:ext cx="29653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1"/>
          <a:stretch/>
        </p:blipFill>
        <p:spPr>
          <a:xfrm>
            <a:off x="457200" y="-128520"/>
            <a:ext cx="8332920" cy="224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monitor"/>
          <p:cNvPicPr/>
          <p:nvPr/>
        </p:nvPicPr>
        <p:blipFill>
          <a:blip r:embed="rId2"/>
          <a:stretch/>
        </p:blipFill>
        <p:spPr>
          <a:xfrm>
            <a:off x="1905120" y="1793880"/>
            <a:ext cx="5715000" cy="506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57200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457200" y="-49320"/>
            <a:ext cx="822960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ort-mcallister-big-cannon"/>
          <p:cNvPicPr/>
          <p:nvPr/>
        </p:nvPicPr>
        <p:blipFill>
          <a:blip r:embed="rId2"/>
          <a:stretch/>
        </p:blipFill>
        <p:spPr>
          <a:xfrm>
            <a:off x="762120" y="1068480"/>
            <a:ext cx="838188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127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onitor_and_merrimac"/>
          <p:cNvPicPr/>
          <p:nvPr/>
        </p:nvPicPr>
        <p:blipFill>
          <a:blip r:embed="rId2"/>
          <a:stretch/>
        </p:blipFill>
        <p:spPr>
          <a:xfrm>
            <a:off x="0" y="942840"/>
            <a:ext cx="914400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01760" y="0"/>
            <a:ext cx="8431200" cy="120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arneywilliam"/>
          <p:cNvPicPr/>
          <p:nvPr/>
        </p:nvPicPr>
        <p:blipFill>
          <a:blip r:embed="rId2"/>
          <a:stretch/>
        </p:blipFill>
        <p:spPr>
          <a:xfrm>
            <a:off x="485640" y="1523880"/>
            <a:ext cx="326412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3392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After the Emancipation Proclamation African Americans began to join the Union Army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54</a:t>
            </a:r>
            <a:r>
              <a:rPr b="0" lang="en-US" sz="3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regiment out of Massachuset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347760" y="103320"/>
            <a:ext cx="8673840" cy="171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fort wagnor"/>
          <p:cNvPicPr/>
          <p:nvPr/>
        </p:nvPicPr>
        <p:blipFill>
          <a:blip r:embed="rId2"/>
          <a:stretch/>
        </p:blipFill>
        <p:spPr>
          <a:xfrm>
            <a:off x="609480" y="2071800"/>
            <a:ext cx="746784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ee surrenders on April 9, 1865 at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PPOMATTOX COURTH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ll Confed. troops forced to take an oath of loyalty to U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ssue of states' rights now "solved"- federal government had asserted its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surrend"/>
          <p:cNvPicPr/>
          <p:nvPr/>
        </p:nvPicPr>
        <p:blipFill>
          <a:blip r:embed="rId1"/>
          <a:stretch/>
        </p:blipFill>
        <p:spPr>
          <a:xfrm>
            <a:off x="6248520" y="17640"/>
            <a:ext cx="29019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ive forks bat"/>
          <p:cNvPicPr/>
          <p:nvPr/>
        </p:nvPicPr>
        <p:blipFill>
          <a:blip r:embed="rId1"/>
          <a:stretch/>
        </p:blipFill>
        <p:spPr>
          <a:xfrm>
            <a:off x="-457200" y="-12600"/>
            <a:ext cx="9753480" cy="738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85800" y="196920"/>
            <a:ext cx="8077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fter four bloody years of civil w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South was defeat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458200" y="76320"/>
            <a:ext cx="68580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76212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85800" y="0"/>
            <a:ext cx="8077320" cy="20952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547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308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33520" y="1009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ver 618,000 military deaths during Civil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664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240" y="380880"/>
            <a:ext cx="8915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EFFECTS OF CIVIL W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eation of a single unified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bolition of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reased power to federal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.S. now an industrial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th was economically and physically devastated, w/ the plantation system cripp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601200" y="6248160"/>
            <a:ext cx="46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onfederateflag"/>
          <p:cNvPicPr/>
          <p:nvPr/>
        </p:nvPicPr>
        <p:blipFill>
          <a:blip r:embed="rId2"/>
          <a:stretch/>
        </p:blipFill>
        <p:spPr>
          <a:xfrm>
            <a:off x="228600" y="2438280"/>
            <a:ext cx="5257800" cy="375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unionflag"/>
          <p:cNvPicPr/>
          <p:nvPr/>
        </p:nvPicPr>
        <p:blipFill>
          <a:blip r:embed="rId3"/>
          <a:stretch/>
        </p:blipFill>
        <p:spPr>
          <a:xfrm>
            <a:off x="5562720" y="1676520"/>
            <a:ext cx="33717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8" descr=""/>
          <p:cNvPicPr/>
          <p:nvPr/>
        </p:nvPicPr>
        <p:blipFill>
          <a:blip r:embed="rId1"/>
          <a:stretch/>
        </p:blipFill>
        <p:spPr>
          <a:xfrm>
            <a:off x="-255600" y="171360"/>
            <a:ext cx="931392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ettysburg-confederate-soldier-portrait-big"/>
          <p:cNvPicPr/>
          <p:nvPr/>
        </p:nvPicPr>
        <p:blipFill>
          <a:blip r:embed="rId2"/>
          <a:stretch/>
        </p:blipFill>
        <p:spPr>
          <a:xfrm>
            <a:off x="457200" y="1143000"/>
            <a:ext cx="3595680" cy="533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Union%20Soldier"/>
          <p:cNvPicPr/>
          <p:nvPr/>
        </p:nvPicPr>
        <p:blipFill>
          <a:blip r:embed="rId3"/>
          <a:stretch/>
        </p:blipFill>
        <p:spPr>
          <a:xfrm>
            <a:off x="5021280" y="1219320"/>
            <a:ext cx="4162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7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civmap"/>
          <p:cNvPicPr/>
          <p:nvPr/>
        </p:nvPicPr>
        <p:blipFill>
          <a:blip r:embed="rId2"/>
          <a:stretch/>
        </p:blipFill>
        <p:spPr>
          <a:xfrm>
            <a:off x="0" y="100800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371520" y="6480"/>
            <a:ext cx="8486640" cy="127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280" y="1379520"/>
            <a:ext cx="8839440" cy="496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Made 90% of industrial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Population- 22 million</a:t>
            </a:r>
            <a:r>
              <a:rPr b="1" lang="en-US" sz="3200" spc="-1" strike="noStrike">
                <a:solidFill>
                  <a:srgbClr val="e5ffff"/>
                </a:solidFill>
                <a:latin typeface="Century Gothic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Controlled the navy</a:t>
            </a:r>
            <a:r>
              <a:rPr b="1" lang="en-US" sz="3200" spc="-1" strike="noStrike">
                <a:solidFill>
                  <a:srgbClr val="e5ffff"/>
                </a:solidFill>
                <a:latin typeface="Century Gothic"/>
                <a:ea typeface="Times New Roman"/>
              </a:rPr>
              <a:t>, which could be used  to blockade southern ports and shut down the  southern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entury Gothic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Capable military leaders, Ulysses S. Gra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Had excellent generals as well-Robert E. Le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efending is always easier</a:t>
            </a: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 than attacking - (familiar w/climate and territory, possible psychological advantag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Farmers fight better than factory work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disadvantages…a smaller pop. of 9 million </a:t>
            </a: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(inc. 3.5 million slav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Sans"/>
              </a:rPr>
              <a:t>had to import industrial goods</a:t>
            </a: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; ve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Lucida Sans"/>
              </a:rPr>
              <a:t>little munitions produ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confederateflag"/>
          <p:cNvPicPr/>
          <p:nvPr/>
        </p:nvPicPr>
        <p:blipFill>
          <a:blip r:embed="rId2"/>
          <a:stretch/>
        </p:blipFill>
        <p:spPr>
          <a:xfrm>
            <a:off x="7010280" y="5335560"/>
            <a:ext cx="2133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384120" y="-126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37124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chnically, it freed the slaves only in states that had seceded from the Un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emancipation"/>
          <p:cNvPicPr/>
          <p:nvPr/>
        </p:nvPicPr>
        <p:blipFill>
          <a:blip r:embed="rId2"/>
          <a:stretch/>
        </p:blipFill>
        <p:spPr>
          <a:xfrm>
            <a:off x="3962520" y="838080"/>
            <a:ext cx="4456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5" descr="GETTYSBURG%20MSD-ULT60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2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127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28600" y="8377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Lee decided to attack the North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on its own terri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July 1-3, 1863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BATTLE OF GETTYSBURG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, P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Lee was defeated 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and retreated to Virginia</a:t>
            </a: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Gettysburg is the largest battle in the history of the Western hemisp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"/>
              </a:rPr>
              <a:t>Over 100, 000 people died in 3 day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It was the last time the South invaded the No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6" descr="Gal9"/>
          <p:cNvPicPr/>
          <p:nvPr/>
        </p:nvPicPr>
        <p:blipFill>
          <a:blip r:embed="rId2"/>
          <a:stretch/>
        </p:blipFill>
        <p:spPr>
          <a:xfrm>
            <a:off x="5791320" y="4716360"/>
            <a:ext cx="3381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21:32:26Z</dcterms:created>
  <dc:creator>J Collins</dc:creator>
  <dc:description/>
  <dc:language>en-US</dc:language>
  <cp:lastModifiedBy>Model User</cp:lastModifiedBy>
  <dcterms:modified xsi:type="dcterms:W3CDTF">2012-02-21T16:01:48Z</dcterms:modified>
  <cp:revision>50</cp:revision>
  <dc:subject/>
  <dc:title>THE AMERICAN CIVIL W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 www.virtualclassroom.net</vt:lpwstr>
  </property>
  <property fmtid="{D5CDD505-2E9C-101B-9397-08002B2CF9AE}" pid="9" name="LinkColor">
    <vt:r8>16711782</vt:r8>
  </property>
  <property fmtid="{D5CDD505-2E9C-101B-9397-08002B2CF9AE}" pid="10" name="MailAddress">
    <vt:lpwstr> mneal@doewling.pvt.k12.ia.us</vt:lpwstr>
  </property>
  <property fmtid="{D5CDD505-2E9C-101B-9397-08002B2CF9AE}" pid="11" name="NavBtnPos">
    <vt:r8>4</vt:r8>
  </property>
  <property fmtid="{D5CDD505-2E9C-101B-9397-08002B2CF9AE}" pid="12" name="Other">
    <vt:lpwstr> </vt:lpwstr>
  </property>
  <property fmtid="{D5CDD505-2E9C-101B-9397-08002B2CF9AE}" pid="13" name="OutputDir">
    <vt:lpwstr>D:\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