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D37-40BC-41E7-84C2-55F8C51D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AE0-503C-46F8-BB62-C2B362D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E46-B4D7-46AD-B660-4F4F91D5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E23-0DEE-40D3-9AAA-257AD2C2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543AE-8F4C-463F-AC0F-AF3F322A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C006D-F85F-46E5-9CB9-FEA13420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86C1E-7C4E-4E55-A502-93F3869C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E2EBA-495F-48E7-A9C8-737D072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CB415-34DB-4F16-9F13-EF65A226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47459-577E-4EE8-BFC4-0DE179F5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CEFCE-6BF3-44E8-90C8-1419362C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A85-598E-4176-AE93-53ADB6C0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0C45-8780-46D4-AACD-2FE6BC5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8069B-4C7C-4F69-8910-E06D1EB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D18B0-7691-4441-9D46-8B01C25C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D58C5-31D2-47CA-8B81-3AD9B3D0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5AED7-E873-4BB2-B182-46F0A72A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9B8-2FD6-4526-AEA7-9649B46C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A1F-8B37-47D9-861D-E6C5EC33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4B9-578A-435D-AB14-5ACE2186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65C-972D-4E50-89CA-4EF8C53E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C4B-842C-40AF-BAAF-9ED9A01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871-3F69-4B28-9D80-11CA228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7D0-D438-4348-9B4D-2C0B7659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6E53-C1E6-4BCB-B278-36E418307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1D3-8A01-4DE2-BC7A-36050E7888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Arial"/>
              </a:rPr>
              <a:t>Four Regions of Texas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8620160_b908afc5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0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Great Plai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lat, treeless grass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ters coldes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arming/ranching very importa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Click on the map to go to information on the region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29000" y="3733560"/>
            <a:ext cx="76320" cy="1447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228600" y="4724280"/>
            <a:ext cx="518148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eat Plains Reg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great-plains-buffalo-2646-sw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image?id=3072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20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Mountains and Basi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ll mountains separated by basin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ert are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ceives little rainfal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Click on the map to go to information on the reg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7" name="Line 5"/>
          <p:cNvSpPr/>
          <p:nvPr/>
        </p:nvSpPr>
        <p:spPr>
          <a:xfrm flipV="1">
            <a:off x="1295280" y="3352320"/>
            <a:ext cx="15264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0" y="419112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untains and Basins 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big-bend-ranch-496231-s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Click on the map to go to information on the region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img_04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481884fd-0036b-05e2d-400cb8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el_paso_bigg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Coastal Plai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/3 of Tex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outh and East along the Gulf of Mexic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/3 Texans live he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Click on the map to go to information on the region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2" name="Line 5"/>
          <p:cNvSpPr/>
          <p:nvPr/>
        </p:nvSpPr>
        <p:spPr>
          <a:xfrm flipV="1">
            <a:off x="4419720" y="5257440"/>
            <a:ext cx="175248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228600" y="5562720"/>
            <a:ext cx="4076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astal Plains Reg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edewet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6599290YphaDiJDri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%7B1EE0D96C-80FD-4875-BD38-3642267153B9%7D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North Central Plai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olling plains , brush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asses, small tre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Click on the map to go to information on the region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4114800" y="2743200"/>
            <a:ext cx="1371600" cy="2209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457200" y="4951440"/>
            <a:ext cx="6429240" cy="19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North Central Plains 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8:31:11Z</dcterms:created>
  <dc:creator>taas</dc:creator>
  <dc:description/>
  <dc:language>en-US</dc:language>
  <cp:lastModifiedBy>taas</cp:lastModifiedBy>
  <dcterms:modified xsi:type="dcterms:W3CDTF">2012-06-14T14:10:47Z</dcterms:modified>
  <cp:revision>7</cp:revision>
  <dc:subject/>
  <dc:title>Slide 1</dc:title>
</cp:coreProperties>
</file>