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2F2-D365-411A-97AC-3713D485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594-2CA7-4506-B566-70FBEE29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E9F-9DB6-4D29-819F-6347F5FF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4B8-1601-41E9-9E5E-BE0EAB12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55DF-39C9-4D66-9D4B-C90BCEB4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3D2D-2911-436A-99A0-7C80BF3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0A61-9EB2-41FA-9867-2FC7D61F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F64E-B806-4882-9101-8B80CCBB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2BA-25EF-42C6-AFD4-B5F6BA4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B06D-158C-4514-9F19-5F5157B3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905A-0C72-4A14-9C0D-80B7F8E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C6F-BE85-4B78-973B-BAF5F9C1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D1E4-C1A9-4FF9-B5BF-37D9AAE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84B-788E-4D91-B8ED-05E81752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793-7224-4ED0-9F88-230D3248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E8F-6044-4D4F-BFB1-AE9FF1E9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987-9C3C-4FCA-80DB-919C7E04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E0B-29B3-4D4B-8213-B60AF5B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5B0-0617-4D11-A993-6E69F01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C4F-42AF-479D-B392-04E7994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2F5-1975-4F50-B806-FEACC12A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DEE-5E41-4A49-96B8-1C00CF3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DC9-4B0B-4B1F-9800-B2EB9199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B6D-87B8-4D1E-8A7B-C393C41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393E-6729-43FF-84DF-D4774239F6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06E-9F0B-4BC5-BDB3-0E079060CC4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rigins of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orld War 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Scott Sleeter – SW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ised by: Hillary Rodriguez – SWH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q019.jpg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52280" y="3809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stria/ Hung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toman Empi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6553080" y="434340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4d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4d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4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4d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4d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q010.jpg"/>
          <p:cNvPicPr/>
          <p:nvPr/>
        </p:nvPicPr>
        <p:blipFill>
          <a:blip r:embed="rId1"/>
          <a:stretch/>
        </p:blipFill>
        <p:spPr>
          <a:xfrm>
            <a:off x="1676520" y="0"/>
            <a:ext cx="54864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q0i1.jpg"/>
          <p:cNvPicPr/>
          <p:nvPr/>
        </p:nvPicPr>
        <p:blipFill>
          <a:blip r:embed="rId1"/>
          <a:stretch/>
        </p:blipFill>
        <p:spPr>
          <a:xfrm>
            <a:off x="1676520" y="0"/>
            <a:ext cx="55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q0jq.jpg"/>
          <p:cNvPicPr/>
          <p:nvPr/>
        </p:nvPicPr>
        <p:blipFill>
          <a:blip r:embed="rId1"/>
          <a:stretch/>
        </p:blipFill>
        <p:spPr>
          <a:xfrm>
            <a:off x="1981080" y="1440"/>
            <a:ext cx="5562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pywd.jpg"/>
          <p:cNvPicPr/>
          <p:nvPr/>
        </p:nvPicPr>
        <p:blipFill>
          <a:blip r:embed="rId1"/>
          <a:stretch/>
        </p:blipFill>
        <p:spPr>
          <a:xfrm>
            <a:off x="0" y="533520"/>
            <a:ext cx="9053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py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European colonialism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ntent Placeholder 2" descr="pyy8.jpg"/>
          <p:cNvPicPr/>
          <p:nvPr/>
        </p:nvPicPr>
        <p:blipFill>
          <a:blip r:embed="rId1"/>
          <a:stretch/>
        </p:blipFill>
        <p:spPr>
          <a:xfrm>
            <a:off x="0" y="152280"/>
            <a:ext cx="9204480" cy="55627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5486400" y="14191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lonialism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5486400" y="22496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0e5"/>
                </a:solidFill>
                <a:latin typeface="Arial"/>
              </a:rPr>
              <a:t>Militarism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475240" y="31813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Nationalism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34800" y="5607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ually, I would tell you that there were 4 reasons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2590920" y="61977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on’t forget the Alliance Syste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download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download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pyzf.jpg"/>
          <p:cNvPicPr/>
          <p:nvPr/>
        </p:nvPicPr>
        <p:blipFill>
          <a:blip r:embed="rId1"/>
          <a:stretch/>
        </p:blipFill>
        <p:spPr>
          <a:xfrm>
            <a:off x="0" y="838080"/>
            <a:ext cx="912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pzft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468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609480" y="16765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Assassination of Archduke Ferdinand sparks the fighting that becomes World War I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3:57:36Z</dcterms:created>
  <dc:creator>swisd</dc:creator>
  <dc:description/>
  <dc:language>en-US</dc:language>
  <cp:lastModifiedBy>Education</cp:lastModifiedBy>
  <dcterms:modified xsi:type="dcterms:W3CDTF">2014-06-12T17:50:38Z</dcterms:modified>
  <cp:revision>43</cp:revision>
  <dc:subject/>
  <dc:title>The Origins of  World War I</dc:title>
</cp:coreProperties>
</file>