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png" ContentType="image/png"/>
  <Override PartName="/ppt/media/image3.png" ContentType="image/png"/>
  <Override PartName="/ppt/media/image7.jpeg" ContentType="image/jpeg"/>
  <Override PartName="/ppt/media/image20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216-585E-4EF4-B3FA-52C6C2A9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4BF4-33B1-48D0-9CF4-E89EE501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E92-B4D4-4251-A013-322BC7B6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1AD-8668-4F99-BE9D-C4D37707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3563-E4D7-43D8-B6D2-C3FAD2C0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1D4E-2237-489F-A661-545CBD12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3A2C-1783-48F2-80E0-BF169CD0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3F3C-F856-42E0-A379-26A2617C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24C8-58FA-41D0-8C4B-1A9022CA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8634-7975-4778-98B1-4B80A1A3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5706-3B0A-4A7D-AC80-35C78A03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569-30DA-4751-919F-A5E1896E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5EE2-D2DF-4938-B587-2F402723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7AF3-FC58-40F4-8ADE-DE9A766A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D00B-4380-4030-905E-1C90A564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38BA-B068-4677-A1D0-813FCF8F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C73B-D76E-4687-9CE1-61B1F277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1BA-76CA-4FF8-87B9-A0C3E005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978-C3A8-4E04-9243-C2F11819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E79B-4C5E-4E86-A33C-C2DC38C4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567-4368-4518-B1FD-CEC9470C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570-B231-4D88-BE95-22678BE5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592-7AD2-454C-A4FA-FA3F81F3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FA5-92F4-4A8D-9C7E-9D5F7250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221D-610D-4C40-B027-5330A74729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EDAE-5473-47C8-9507-B9B5C0216C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eography 101 Foldable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120" y="25905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s (starting from the top, going down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ffff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TTLEMENT (Cit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ffff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TE or PROVI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ffff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G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ffff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ffff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IN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ffff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OR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urope is a contin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5" descr="europe"/>
          <p:cNvPicPr/>
          <p:nvPr/>
        </p:nvPicPr>
        <p:blipFill>
          <a:blip r:embed="rId1"/>
          <a:stretch/>
        </p:blipFill>
        <p:spPr>
          <a:xfrm>
            <a:off x="3124080" y="2133720"/>
            <a:ext cx="28209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are some examples of countries in Europ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981080" y="62784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6" descr="england"/>
          <p:cNvPicPr/>
          <p:nvPr/>
        </p:nvPicPr>
        <p:blipFill>
          <a:blip r:embed="rId1"/>
          <a:stretch/>
        </p:blipFill>
        <p:spPr>
          <a:xfrm>
            <a:off x="3429000" y="2362320"/>
            <a:ext cx="3200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are some examples of countries in Europ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981080" y="62784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6" descr="france"/>
          <p:cNvPicPr/>
          <p:nvPr/>
        </p:nvPicPr>
        <p:blipFill>
          <a:blip r:embed="rId1"/>
          <a:stretch/>
        </p:blipFill>
        <p:spPr>
          <a:xfrm>
            <a:off x="2971800" y="2133720"/>
            <a:ext cx="3733920" cy="33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are some examples of countries in Europ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981080" y="62784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6" descr="spain"/>
          <p:cNvPicPr/>
          <p:nvPr/>
        </p:nvPicPr>
        <p:blipFill>
          <a:blip r:embed="rId1"/>
          <a:stretch/>
        </p:blipFill>
        <p:spPr>
          <a:xfrm>
            <a:off x="2666880" y="2209680"/>
            <a:ext cx="441180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are some examples of countries in Europ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981080" y="62784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ether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6" descr="Netherlands"/>
          <p:cNvPicPr/>
          <p:nvPr/>
        </p:nvPicPr>
        <p:blipFill>
          <a:blip r:embed="rId1"/>
          <a:stretch/>
        </p:blipFill>
        <p:spPr>
          <a:xfrm>
            <a:off x="2971800" y="2362320"/>
            <a:ext cx="2930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urop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8" name="Picture 5" descr="Europe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is a regio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n area that is within a country, or sometimes a state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are some examples of regions in the United Stat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066680" y="2214720"/>
            <a:ext cx="6924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are some examples of regions in the United Stat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400800" cy="43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is an example of regions within Texa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981080" y="2000160"/>
            <a:ext cx="5262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eography 101 Foldable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09120" y="25905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each tab you ne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ffff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cab Wo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ffff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ffff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icture or Sket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ffff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from Zombie M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ow are regions determine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is a state or provinc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 territory that is an organized community within a larger countr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are some examples of stat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are some examples of stat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90480" y="1905120"/>
            <a:ext cx="7767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is an example of a provinc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523880" y="1919160"/>
            <a:ext cx="61390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is a settlem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 place where people have established a community within a state or provin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are some examples of settlements or citi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xico 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g K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 Anton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 Ange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s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ky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ro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b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. Lou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s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us Chri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enos 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457200" y="719280"/>
            <a:ext cx="820260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is a Contin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295280" y="2286000"/>
            <a:ext cx="66294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One of the seven large divisions of land on the earth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http://media.web.britannica.com/eb-media/59/89959-050-6CC4DDA1.gif"/>
          <p:cNvPicPr/>
          <p:nvPr/>
        </p:nvPicPr>
        <p:blipFill>
          <a:blip r:embed="rId1"/>
          <a:stretch/>
        </p:blipFill>
        <p:spPr>
          <a:xfrm>
            <a:off x="-90360" y="762120"/>
            <a:ext cx="9310680" cy="48765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1143000" y="5791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es this plain map compare to the Zombie map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orth America has many countri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Picture 7" descr="north-america-map"/>
          <p:cNvPicPr/>
          <p:nvPr/>
        </p:nvPicPr>
        <p:blipFill>
          <a:blip r:embed="rId1"/>
          <a:stretch/>
        </p:blipFill>
        <p:spPr>
          <a:xfrm>
            <a:off x="609480" y="1897200"/>
            <a:ext cx="3705480" cy="4152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http://static2.businessinsider.com/image/4f85871eeab8ea9b6e000036/this-zombie-apocalypse-map-seems-rather-useful.jpg"/>
          <p:cNvPicPr/>
          <p:nvPr/>
        </p:nvPicPr>
        <p:blipFill>
          <a:blip r:embed="rId2"/>
          <a:stretch/>
        </p:blipFill>
        <p:spPr>
          <a:xfrm>
            <a:off x="4800600" y="254016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is a Countr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52480" y="2666880"/>
            <a:ext cx="5639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An independent self governing nation and its territories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are some examples of countri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6" descr="United-States"/>
          <p:cNvPicPr/>
          <p:nvPr/>
        </p:nvPicPr>
        <p:blipFill>
          <a:blip r:embed="rId1"/>
          <a:stretch/>
        </p:blipFill>
        <p:spPr>
          <a:xfrm>
            <a:off x="2209680" y="2057400"/>
            <a:ext cx="4384800" cy="36957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1981080" y="62784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nited St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are some examples of countri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981080" y="62784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x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6" descr="mexico"/>
          <p:cNvPicPr/>
          <p:nvPr/>
        </p:nvPicPr>
        <p:blipFill>
          <a:blip r:embed="rId1"/>
          <a:stretch/>
        </p:blipFill>
        <p:spPr>
          <a:xfrm>
            <a:off x="1905120" y="2133720"/>
            <a:ext cx="4549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are some examples of countri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981080" y="62784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6" descr="Canada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20:46:42Z</dcterms:created>
  <dc:creator>Staff</dc:creator>
  <dc:description/>
  <dc:language>en-US</dc:language>
  <cp:lastModifiedBy>ncate</cp:lastModifiedBy>
  <dcterms:modified xsi:type="dcterms:W3CDTF">2016-06-13T19:42:45Z</dcterms:modified>
  <cp:revision>9</cp:revision>
  <dc:subject/>
  <dc:title>Countries and Continents</dc:title>
</cp:coreProperties>
</file>