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C4D-5040-4DFA-A031-C86CB9E3C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4962-697C-41B1-9389-701FBDB8E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09D-CC1A-44B1-9B6C-C2E09E63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B53-73E9-407D-9FDA-C7BCADB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902-515E-4664-A451-36CD2F00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90F-BA11-44FD-BF75-B437E654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4E2-0821-4E66-9ABE-061E918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9A4-E89D-48F0-A2C6-C6E5E2BF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4A5-88EA-4002-90CA-192330C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D31-0C4D-45C2-8A49-C2B97AE2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1A6-1DAA-44AE-9451-B4BC5CA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8FE-0236-45B9-A8D6-8AE77D2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DD7-49FB-468B-82D8-82C1F14D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89A-F1CF-4D34-A748-B27E5A02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2BF4-469B-492C-ABCF-3EADD4747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STRU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65-187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AR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 Johnson’s Plan For Reconstr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-ranking Confederates and wealth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outhern landown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eed to take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ath of allegi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don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re than 13,000 form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federa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he believed that “White men alone must manage the South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086600" y="76320"/>
            <a:ext cx="2057400" cy="164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7415280" y="4724280"/>
            <a:ext cx="1728720" cy="2100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43600" y="54100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841920" y="301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692720" y="-363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heather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Abe Lincoln-3"/>
          <p:cNvPicPr/>
          <p:nvPr/>
        </p:nvPicPr>
        <p:blipFill>
          <a:blip r:embed="rId1"/>
          <a:srcRect l="0" t="0" r="2182" b="0"/>
          <a:stretch/>
        </p:blipFill>
        <p:spPr>
          <a:xfrm>
            <a:off x="2895480" y="1981080"/>
            <a:ext cx="327672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Text Box 2"/>
          <p:cNvSpPr/>
          <p:nvPr/>
        </p:nvSpPr>
        <p:spPr>
          <a:xfrm>
            <a:off x="457200" y="3049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04920" y="22860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30a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Insula"/>
              </a:rPr>
              <a:t>Key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1523880"/>
            <a:ext cx="2514600" cy="2057400"/>
          </a:xfrm>
          <a:prstGeom prst="rect">
            <a:avLst/>
          </a:prstGeom>
          <a:solidFill>
            <a:srgbClr val="d30a05"/>
          </a:solidFill>
          <a:ln w="0">
            <a:noFill/>
          </a:ln>
          <a:effectLst>
            <a:outerShdw dist="17819" dir="2700000" blurRad="0" rotWithShape="0">
              <a:srgbClr val="7f06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1. How do w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bring the South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back into the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Unio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038480"/>
            <a:ext cx="2514600" cy="2057400"/>
          </a:xfrm>
          <a:prstGeom prst="rect">
            <a:avLst/>
          </a:prstGeom>
          <a:solidFill>
            <a:srgbClr val="d30a05"/>
          </a:solidFill>
          <a:ln w="0">
            <a:noFill/>
          </a:ln>
          <a:effectLst>
            <a:outerShdw dist="17819" dir="2700000" blurRad="0" rotWithShape="0">
              <a:srgbClr val="7f06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2. How do we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rebuild the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outh after it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destruction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during the wa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029200" y="4038480"/>
            <a:ext cx="2514600" cy="2057400"/>
          </a:xfrm>
          <a:prstGeom prst="rect">
            <a:avLst/>
          </a:prstGeom>
          <a:solidFill>
            <a:srgbClr val="d30a05"/>
          </a:solidFill>
          <a:ln w="0">
            <a:noFill/>
          </a:ln>
          <a:effectLst>
            <a:outerShdw dist="17819" dir="2700000" blurRad="0" rotWithShape="0">
              <a:srgbClr val="7f06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3. How do w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integrate 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protect newly-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emancipate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black freedm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19920" y="1523880"/>
            <a:ext cx="2514600" cy="2057400"/>
          </a:xfrm>
          <a:prstGeom prst="rect">
            <a:avLst/>
          </a:prstGeom>
          <a:solidFill>
            <a:srgbClr val="d30a05"/>
          </a:solidFill>
          <a:ln w="0">
            <a:noFill/>
          </a:ln>
          <a:effectLst>
            <a:outerShdw dist="17819" dir="2700000" blurRad="0" rotWithShape="0">
              <a:srgbClr val="7f06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4. What branch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of governmen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hould control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he process of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Reconstructio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2057400" y="1066680"/>
            <a:ext cx="990720" cy="381240"/>
          </a:xfrm>
          <a:prstGeom prst="line">
            <a:avLst/>
          </a:prstGeom>
          <a:ln w="28440">
            <a:solidFill>
              <a:srgbClr val="d30a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3276720" y="1219320"/>
            <a:ext cx="761760" cy="2743200"/>
          </a:xfrm>
          <a:prstGeom prst="line">
            <a:avLst/>
          </a:prstGeom>
          <a:ln w="28440">
            <a:solidFill>
              <a:srgbClr val="d30a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4952880" y="1219320"/>
            <a:ext cx="914400" cy="2743200"/>
          </a:xfrm>
          <a:prstGeom prst="line">
            <a:avLst/>
          </a:prstGeom>
          <a:ln w="28440">
            <a:solidFill>
              <a:srgbClr val="d30a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6019920" y="990720"/>
            <a:ext cx="914400" cy="457200"/>
          </a:xfrm>
          <a:prstGeom prst="line">
            <a:avLst/>
          </a:prstGeom>
          <a:ln w="28440">
            <a:solidFill>
              <a:srgbClr val="d30a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struction and its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iod during in which the U.S. began to rebuild after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the federal government used to readmit the defeated Confederate states to the Un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3179520" cy="20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ONSTRUCTION PL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1. Lincoln’s Plan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Calibri"/>
              </a:rPr>
              <a:t>Ten percent pla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overnment would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ardon all Confederat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xcept high ranking officials and those accused of crimes against prisoners of w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soon a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ten perce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ose who had voted in 1860 took thi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oath of allegi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 Confederate state could form a new state governme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South had to accept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 ban on slav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315200" y="54000"/>
            <a:ext cx="1806480" cy="2082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. Radical Republican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congress’ plan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nted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stro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olitical power of form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lav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all, they want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rican America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giv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ll citizensh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ight to vo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378560" y="4343400"/>
            <a:ext cx="174312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encrypted-tbn3.gstatic.com/images?q=tbn:ANd9GcTcb22J0gw_eprWwe_JQUFkPHemLzkbp2jdZpC_ZDOIhrkhFOX8"/>
          <p:cNvPicPr/>
          <p:nvPr/>
        </p:nvPicPr>
        <p:blipFill>
          <a:blip r:embed="rId1"/>
          <a:stretch/>
        </p:blipFill>
        <p:spPr>
          <a:xfrm>
            <a:off x="5791320" y="2065320"/>
            <a:ext cx="3352680" cy="4792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0" y="457200"/>
            <a:ext cx="914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e have turned loose 4 million slaves without a hut to shelter them or a cent in their pockets. If we do not furnish [them] with homesteads (land) and hedge (surround) them about with protective laws; if we leave them to the [governing]of their late masters, we had better have left them in bondag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Thaddeus Stephens, Radical Republ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coln Assassin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hn Wilkes Boo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and kills President Lincoln a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ords Theat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3.bp.blogspot.com/-5xjxVXjWPGs/Ti9VsRu74VI/AAAAAAAADZ0/21eIjfKwHvA/s1600/1-lincoln-assassination-granger.jpg"/>
          <p:cNvPicPr/>
          <p:nvPr/>
        </p:nvPicPr>
        <p:blipFill>
          <a:blip r:embed="rId1"/>
          <a:stretch/>
        </p:blipFill>
        <p:spPr>
          <a:xfrm>
            <a:off x="3429000" y="2705040"/>
            <a:ext cx="5715000" cy="4152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0" y="28954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ndrew Johns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ome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upload.wikimedia.org/wikipedia/commons/7/7c/Andrew_Johnson.jpg"/>
          <p:cNvPicPr/>
          <p:nvPr/>
        </p:nvPicPr>
        <p:blipFill>
          <a:blip r:embed="rId2"/>
          <a:stretch/>
        </p:blipFill>
        <p:spPr>
          <a:xfrm>
            <a:off x="533520" y="4495680"/>
            <a:ext cx="2241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01:03:36Z</dcterms:created>
  <dc:creator>e070799</dc:creator>
  <dc:description/>
  <dc:language>en-US</dc:language>
  <cp:lastModifiedBy>e073573</cp:lastModifiedBy>
  <dcterms:modified xsi:type="dcterms:W3CDTF">2015-06-11T15:30:31Z</dcterms:modified>
  <cp:revision>105</cp:revision>
  <dc:subject/>
  <dc:title>RECONSTRUCTION 1865-1876</dc:title>
</cp:coreProperties>
</file>