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2A51-3FE0-4880-830F-ABBF2A9F8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98AD-7ABE-4130-87EA-3148C86FC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1421-4BFA-4F42-9608-544A7C608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99AF-3C70-45B9-835E-86665514F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AD77-83DD-4D7A-92D0-243980E02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66E7-6217-428F-8FC7-97A096E31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EF88-CFA2-483C-91F5-67A3C5A60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0AD6-A088-435C-A9E0-D3058D183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928D-23B7-40AB-97A3-0B1B70F87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D0D-3E71-4797-A9AF-C2CF152A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4B7-2A36-4627-A0CA-26923757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12D-5F28-4302-A372-F716987C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C4F-1FB2-4FEB-A110-5FC7B099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0836-35EE-45AE-9BB7-D2F2FE96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2FC1-8EC3-479E-884F-4583562C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0FB7-0AF9-44F0-A3EB-86731AC5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BBEE-D847-49DC-9354-BE4F520D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E5C4-5169-419D-AE35-9407ECE5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4FDB-2062-4B43-AD0F-90BD475C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F720-ED0C-4C61-8410-53E4BDB0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31E-0EA9-44C5-88F0-D76EF94C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D305-9334-4EFF-8E90-B59629E6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F512-69C8-422B-8093-05198E39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F713-C4D3-44D5-BBAA-95BE91CA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16A3-B98A-427E-A268-A1DE3E9E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9363-A388-4D1F-862B-84FB03AF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1F869-7706-42F6-916F-CC92D586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28003-2FF0-4FCC-B16C-043655FC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D69FD-0B83-414D-A9D9-A58C5848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EF6F1-3F1E-4762-92C7-DE8B9CCA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8B329-8C07-40C8-B92F-FDD83EFD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CF2-7B85-4967-B5F5-AD93F413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62565-E230-47C5-929C-0B353845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DE612-9430-4DB2-90A9-8719522B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83AAB-1309-4553-915D-9207163D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AAA71-3544-4EBF-882C-55E0B70F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D7F7-67E1-4558-8E7F-3316ACE8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5BAC6-B24E-4E22-8EDC-0AF02172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AB6EF-3B49-4E2B-B296-9C80CA2C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4AF7D-449B-47AC-B1A8-E71144DB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1FE37-2041-4071-A837-FB5DD3DE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821E2-DB93-455F-B834-5A56B76E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261-BF20-463D-A177-1009DEFC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EC1D7-8CF9-4C4C-AB8C-22AF7F2E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6A7DB-6454-4FCF-9D2E-AA528EBF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212B-9E8A-4B98-8433-37A2D614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BC33B-4479-43C4-9D00-D86778AF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31446-9F05-4D8F-8B4A-1C515990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DD0E0-A8D0-4540-9541-4994DCB9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AF1D-FD1F-488E-82EA-89B90029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B5B54-E31E-4B99-82FC-98406AA6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EA689-9BEC-473F-AE29-B18FF0D5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31298-0F20-4655-8CA9-89CF0BFB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EB9-6C2C-44A6-BAA7-3B9F103D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BA557-561C-4B37-8C84-29A8B4A9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F92D-B2FA-4719-A33D-E821DEF1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E66C9-6581-4026-8C49-659507D7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5B15E-5FBD-42B0-971B-7E556F9A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25FF0-8132-4A7D-B63E-A1281B78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8C325-5EEC-4714-A502-2A122D1C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3333F-812C-4507-B82B-5931FC9C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6AD3B-7868-4C1C-90E5-E3816B6D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67030-A4B3-4483-AA69-939FA759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E38C7-2E8A-4096-AFF2-BFF48696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BA4-3824-4B18-9598-98EDDC21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7F204-5880-4642-B2EC-5A663990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420-511A-4CF3-8528-38AA33D0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9F6-166E-45D3-BDD0-8A9F3481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9EA-94D5-402A-AC74-DE6E7702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2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3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8320" y="29520"/>
                <a:ext cx="8806680" cy="64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6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3720"/>
                <a:ext cx="8602560" cy="75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>
                <a:off x="58320" y="5461920"/>
                <a:ext cx="8604000" cy="7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" name="Freeform 11"/>
            <p:cNvSpPr/>
            <p:nvPr/>
          </p:nvSpPr>
          <p:spPr>
            <a:xfrm>
              <a:off x="39600" y="29520"/>
              <a:ext cx="8654760" cy="622476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0B62-8B86-4AC0-939C-543405B280FC}" type="slidenum">
              <a:rPr b="0" lang="en-US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" name="Freeform 14"/>
          <p:cNvGrpSpPr/>
          <p:nvPr/>
        </p:nvGrpSpPr>
        <p:grpSpPr>
          <a:xfrm>
            <a:off x="-85680" y="-49320"/>
            <a:ext cx="8955000" cy="6662880"/>
            <a:chOff x="-85680" y="-49320"/>
            <a:chExt cx="8955000" cy="6662880"/>
          </a:xfrm>
        </p:grpSpPr>
        <p:pic>
          <p:nvPicPr>
            <p:cNvPr id="52" name="Freeform 14" descr=""/>
            <p:cNvPicPr/>
            <p:nvPr/>
          </p:nvPicPr>
          <p:blipFill>
            <a:blip r:embed="rId4"/>
            <a:stretch/>
          </p:blipFill>
          <p:spPr>
            <a:xfrm>
              <a:off x="-85680" y="-49320"/>
              <a:ext cx="8955000" cy="66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-7920" y="-17640"/>
              <a:ext cx="8753400" cy="64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4" name="Freeform 15"/>
          <p:cNvGrpSpPr/>
          <p:nvPr/>
        </p:nvGrpSpPr>
        <p:grpSpPr>
          <a:xfrm>
            <a:off x="-12600" y="4443480"/>
            <a:ext cx="8467560" cy="1719360"/>
            <a:chOff x="-12600" y="4443480"/>
            <a:chExt cx="8467560" cy="1719360"/>
          </a:xfrm>
        </p:grpSpPr>
        <p:pic>
          <p:nvPicPr>
            <p:cNvPr id="55" name="Freeform 15" descr=""/>
            <p:cNvPicPr/>
            <p:nvPr/>
          </p:nvPicPr>
          <p:blipFill>
            <a:blip r:embed="rId5"/>
            <a:stretch/>
          </p:blipFill>
          <p:spPr>
            <a:xfrm>
              <a:off x="-12600" y="4443480"/>
              <a:ext cx="846756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-11160" y="4444920"/>
              <a:ext cx="8466120" cy="17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7" name="Freeform 16"/>
          <p:cNvGrpSpPr/>
          <p:nvPr/>
        </p:nvGrpSpPr>
        <p:grpSpPr>
          <a:xfrm>
            <a:off x="0" y="0"/>
            <a:ext cx="5810040" cy="324000"/>
            <a:chOff x="0" y="0"/>
            <a:chExt cx="5810040" cy="324000"/>
          </a:xfrm>
        </p:grpSpPr>
        <p:pic>
          <p:nvPicPr>
            <p:cNvPr id="58" name="Freeform 16" descr=""/>
            <p:cNvPicPr/>
            <p:nvPr/>
          </p:nvPicPr>
          <p:blipFill>
            <a:blip r:embed="rId6"/>
            <a:stretch/>
          </p:blipFill>
          <p:spPr>
            <a:xfrm>
              <a:off x="2880" y="0"/>
              <a:ext cx="580716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5808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0" name="Freeform 17"/>
          <p:cNvSpPr/>
          <p:nvPr/>
        </p:nvSpPr>
        <p:spPr>
          <a:xfrm rot="21420000">
            <a:off x="-171360" y="212400"/>
            <a:ext cx="8480160" cy="5746680"/>
          </a:xfrm>
          <a:custGeom>
            <a:avLst/>
            <a:gdLst/>
            <a:ahLst/>
            <a:rect l="l" t="t" r="r" b="b"/>
            <a:pathLst>
              <a:path w="11307378" h="5746008">
                <a:moveTo>
                  <a:pt x="11270997" y="0"/>
                </a:moveTo>
                <a:lnTo>
                  <a:pt x="11307378" y="5746008"/>
                </a:lnTo>
                <a:lnTo>
                  <a:pt x="1" y="5743137"/>
                </a:lnTo>
              </a:path>
            </a:pathLst>
          </a:custGeom>
          <a:noFill/>
          <a:ln w="82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5-Point Star 18"/>
          <p:cNvSpPr/>
          <p:nvPr/>
        </p:nvSpPr>
        <p:spPr>
          <a:xfrm rot="21420000">
            <a:off x="3122640" y="5057280"/>
            <a:ext cx="514440" cy="514440"/>
          </a:xfrm>
          <a:custGeom>
            <a:avLst/>
            <a:gdLst/>
            <a:ahLst/>
            <a:rect l="l" t="t" r="r" b="b"/>
            <a:pathLst>
              <a:path w="515386" h="515386">
                <a:moveTo>
                  <a:pt x="1" y="196859"/>
                </a:moveTo>
                <a:lnTo>
                  <a:pt x="172669" y="161850"/>
                </a:lnTo>
                <a:lnTo>
                  <a:pt x="257693" y="0"/>
                </a:lnTo>
                <a:lnTo>
                  <a:pt x="342717" y="161850"/>
                </a:lnTo>
                <a:lnTo>
                  <a:pt x="515385" y="196859"/>
                </a:lnTo>
                <a:lnTo>
                  <a:pt x="395265" y="331898"/>
                </a:lnTo>
                <a:lnTo>
                  <a:pt x="416956" y="515385"/>
                </a:lnTo>
                <a:lnTo>
                  <a:pt x="257693" y="436993"/>
                </a:lnTo>
                <a:lnTo>
                  <a:pt x="98430" y="515385"/>
                </a:lnTo>
                <a:lnTo>
                  <a:pt x="120121" y="331898"/>
                </a:lnTo>
                <a:lnTo>
                  <a:pt x="1" y="196859"/>
                </a:lnTo>
                <a:close/>
              </a:path>
            </a:pathLst>
          </a:cu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 rot="21420000">
            <a:off x="3668040" y="4714560"/>
            <a:ext cx="46083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 rot="21420000">
            <a:off x="-12600" y="4954320"/>
            <a:ext cx="29876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 rot="21420000">
            <a:off x="7400520" y="3819240"/>
            <a:ext cx="681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27B2-3AC7-4EEF-93C4-A2CDC868781A}" type="slidenum"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105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106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8320" y="29520"/>
                <a:ext cx="8806680" cy="64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109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3720"/>
                <a:ext cx="8602560" cy="75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58320" y="5461920"/>
                <a:ext cx="8604000" cy="7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1" name="Freeform 11"/>
            <p:cNvSpPr/>
            <p:nvPr/>
          </p:nvSpPr>
          <p:spPr>
            <a:xfrm>
              <a:off x="39600" y="29520"/>
              <a:ext cx="8654760" cy="622476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16D3-E360-4B3E-A78A-79A85BE53DFA}" type="slidenum">
              <a:rPr b="0" lang="en-US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155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156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58320" y="29520"/>
                <a:ext cx="8806680" cy="64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8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159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3720"/>
                <a:ext cx="8602560" cy="75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58320" y="5461920"/>
                <a:ext cx="8604000" cy="7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1" name="Freeform 11"/>
            <p:cNvSpPr/>
            <p:nvPr/>
          </p:nvSpPr>
          <p:spPr>
            <a:xfrm>
              <a:off x="39600" y="29520"/>
              <a:ext cx="8654760" cy="622476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2" name="TextBox 13"/>
          <p:cNvSpPr/>
          <p:nvPr/>
        </p:nvSpPr>
        <p:spPr>
          <a:xfrm>
            <a:off x="404640" y="88740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7897680" y="2906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9445-44C7-40C4-83A1-791950B6DAD1}" type="slidenum">
              <a:rPr b="0" lang="en-US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207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208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58320" y="29520"/>
                <a:ext cx="8806680" cy="64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0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211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3720"/>
                <a:ext cx="8602560" cy="75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58320" y="5461920"/>
                <a:ext cx="8604000" cy="7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3" name="Freeform 11"/>
            <p:cNvSpPr/>
            <p:nvPr/>
          </p:nvSpPr>
          <p:spPr>
            <a:xfrm>
              <a:off x="39600" y="29520"/>
              <a:ext cx="8654760" cy="622476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11A0-01CA-4066-8EAD-0C7CA70678EC}" type="slidenum">
              <a:rPr b="0" lang="en-US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761976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b80e0f"/>
                </a:solidFill>
                <a:latin typeface="Impact"/>
              </a:rPr>
              <a:t>HISTORIC DOCUMENTS THAT INFLUENCED THE AMERICAN SYSTEM OF GOVERNMENT</a:t>
            </a:r>
            <a:endParaRPr b="0" lang="en-US" sz="6500" spc="-1" strike="noStrike">
              <a:solidFill>
                <a:srgbClr val="b80e0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80e0f"/>
                </a:solidFill>
                <a:latin typeface="Impact"/>
              </a:rPr>
              <a:t>MAGNA CARTA, 1215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3720" y="1218960"/>
            <a:ext cx="7848720" cy="42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LIMITED THE POWER OF THE KING BY GUARANTEEING RIGHTS TO THE PEOPLE.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THESE RIGHTS WERE: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NO CRUEL &amp; UNUSUAL PUNISHMEN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THE RIGHT TO A FAIR AND SPEEDY TRIAL BY YOUR PEERS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THE GOVERNMENT MUST HAVE THE PEOPLES APPROVAL TO LEVY TAXES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65" name="Picture 5" descr="https://static.guim.co.uk/sys-images/Guardian/Pix/pictures/2014/10/31/1414788645255/Magna-carta-014.jpg"/>
          <p:cNvPicPr/>
          <p:nvPr/>
        </p:nvPicPr>
        <p:blipFill>
          <a:blip r:embed="rId1"/>
          <a:stretch/>
        </p:blipFill>
        <p:spPr>
          <a:xfrm>
            <a:off x="4724280" y="2438280"/>
            <a:ext cx="354816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80e0f"/>
                </a:solidFill>
                <a:latin typeface="Impact"/>
              </a:rPr>
              <a:t>THE HOUSE OF BURGESSES, 1619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0360" y="141732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RITTEN IN VIRGINIA IN 1619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THE FIRST EXAMPLE OF AN ELECTED REPRESENTATIVE ASSEMBLY IN THE AMERICA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2876760" cy="349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80e0f"/>
                </a:solidFill>
                <a:latin typeface="Impact"/>
              </a:rPr>
              <a:t>THE MAYFLOWER COMPACT, 1620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45760" y="121896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Impact"/>
              </a:rPr>
              <a:t>WRITTEN BY THE PILGRIMS WHEN THEY LANDED NEAR PLYMOUTH. </a:t>
            </a:r>
            <a:endParaRPr b="0" lang="en-US" sz="2600" spc="-1" strike="noStrike">
              <a:solidFill>
                <a:srgbClr val="000000"/>
              </a:solidFill>
              <a:latin typeface="Impact"/>
            </a:endParaRPr>
          </a:p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Impact"/>
              </a:rPr>
              <a:t>IT IS A </a:t>
            </a:r>
            <a:r>
              <a:rPr b="0" lang="en-US" sz="2600" spc="-1" strike="noStrike">
                <a:solidFill>
                  <a:srgbClr val="212121"/>
                </a:solidFill>
                <a:latin typeface="Impact"/>
              </a:rPr>
              <a:t>CONTRACT OF SELF GOVERNMENT WHERE GOVERNMENT IS ORGANIZED FOR THE GOOD OF THE PEOPLE.</a:t>
            </a:r>
            <a:endParaRPr b="0" lang="en-US" sz="2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5118120" y="2286000"/>
            <a:ext cx="3019320" cy="2114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80e0f"/>
                </a:solidFill>
                <a:latin typeface="Impact"/>
              </a:rPr>
              <a:t>THE FUNDAMENTAL ORDERS OF CONNECTICUT, 1636</a:t>
            </a:r>
            <a:endParaRPr b="0" lang="en-US" sz="40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CONSIDERED THE FIRST WRITTEN CONSTITUTION IN THE COLONIES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1" marL="678600" indent="-226080">
              <a:lnSpc>
                <a:spcPct val="10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Impact"/>
              </a:rPr>
              <a:t>OUTLINED HOW GOVERNMENT WORKED AND THAT THE COMMUNITY IS TO WORK TOGETHER</a:t>
            </a:r>
            <a:endParaRPr b="0" lang="en-US" sz="22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ALL OTHER COLONIES WILL MODEL THEIR CONSTITUTIONS LIKE IT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809880" cy="292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80e0f"/>
                </a:solidFill>
                <a:latin typeface="Impact"/>
              </a:rPr>
              <a:t>ENGLISH BILL OF RIGHTS, 1689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17080" indent="-21708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MONARCHS WILLIAM AND MARY OF ORANGE AGREE TO ALLOW THE PARLIAMENT (PEOPLE) POWER OVER THE MONARCHY.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marL="217080" indent="-21708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ADDITIONAL RIGHTS GAINED: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1" marL="651240" indent="-21708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FREEDOM OF SPEECH AND DEBAT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1" marL="651240" indent="-21708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NO EXCESSIVE BAILS, RIGHT TO PETITION GOVERNMENT AND A RIGHT TO TRIA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5073480" y="2209680"/>
            <a:ext cx="3560760" cy="2368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0e0f"/>
                </a:solidFill>
                <a:latin typeface="Impact"/>
              </a:rPr>
              <a:t>THE DECLARATION OF INDEPENDENCE, 1776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5960" y="141768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Impact"/>
              </a:rPr>
              <a:t>WRITTEN BY THOMAS JEFFERSON IT IS MADE OF THREE PARTS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Impact"/>
              </a:rPr>
              <a:t>A STATEMENT OF HUMAN RIGHTS, 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Impact"/>
              </a:rPr>
              <a:t>REASONS FOR DECLARING INDEPENDENCE 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Impact"/>
              </a:rPr>
              <a:t>THE DECLARATION.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Impact"/>
              </a:rPr>
              <a:t>IT EXPLAINS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Impact"/>
              </a:rPr>
              <a:t>UNALIENABLE RIGHTS, 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Impact"/>
              </a:rPr>
              <a:t>GOVERNMENT GETS IT POWER FROM THE PEOPLE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Impact"/>
              </a:rPr>
              <a:t>PEOPLE HAVE THE RIGHT TO REPLACE BAD GOVERNMENTS.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4781520" y="2362320"/>
            <a:ext cx="3848040" cy="2523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80e0f"/>
                </a:solidFill>
                <a:latin typeface="Impact"/>
              </a:rPr>
              <a:t>THE ARTICLES OF CONFEDERATION, 1781</a:t>
            </a:r>
            <a:endParaRPr b="0" lang="en-US" sz="40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4760" y="14302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Impact"/>
              </a:rPr>
              <a:t>ADOPTED AT THE 2ND CONTINENTAL CONGRESS</a:t>
            </a:r>
            <a:endParaRPr b="0" lang="en-US" sz="2600" spc="-1" strike="noStrike">
              <a:solidFill>
                <a:srgbClr val="000000"/>
              </a:solidFill>
              <a:latin typeface="Impac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Impact"/>
              </a:rPr>
              <a:t>IT WAS A WEAK NATIONAL GOVERNMENT BECAUSE POWER RESIDED IN STATES</a:t>
            </a:r>
            <a:endParaRPr b="0" lang="en-US" sz="26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0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COULD NOT COLLECT TAXES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0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ENFORCE LAWS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0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REGULATE TRADE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0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AMEND THE ARTICLES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4572000" y="1882800"/>
            <a:ext cx="4038480" cy="322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02:36:43Z</dcterms:created>
  <dc:creator>core curr</dc:creator>
  <dc:description/>
  <dc:language>en-US</dc:language>
  <cp:lastModifiedBy>ncate</cp:lastModifiedBy>
  <dcterms:modified xsi:type="dcterms:W3CDTF">2016-06-14T14:43:58Z</dcterms:modified>
  <cp:revision>17</cp:revision>
  <dc:subject/>
  <dc:title>Historic Documents that Influenced the American System of Government</dc:title>
</cp:coreProperties>
</file>