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9AD0-423E-422F-848E-7CAE7B44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4E15-3D1C-4F64-AE41-DEDE9A7F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A814-DABE-4077-91C7-9C2B66CBF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AB3F-F756-4784-9057-99B4B02C5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99CB-D003-4F35-A3FC-2E080CBC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8086-8853-43B2-AC05-92198E74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B465-AF13-40B7-9E8A-156C5F1C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F22A-2F7E-48BF-B4FA-04A7E3B8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D63E-A1A2-49D4-ACCD-309D1224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89B1-C0E3-4982-862A-9699D1C9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81CF-C390-46DF-8862-0E6F69DD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53F5-8221-4DA1-97AB-8213B6FB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5F09-1CB4-482D-8CC7-3825AE64E3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econstruction Amend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6" descr="http://texaspolitics.utexas.edu/archive/html/cons/features/0206_01/slide3.gif"/>
          <p:cNvPicPr/>
          <p:nvPr/>
        </p:nvPicPr>
        <p:blipFill>
          <a:blip r:embed="rId1"/>
          <a:stretch/>
        </p:blipFill>
        <p:spPr>
          <a:xfrm>
            <a:off x="609480" y="1828800"/>
            <a:ext cx="8001000" cy="1467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http://texaspolitics.utexas.edu/archive/html/cons/features/0206_01/slide4.gif"/>
          <p:cNvPicPr/>
          <p:nvPr/>
        </p:nvPicPr>
        <p:blipFill>
          <a:blip r:embed="rId2"/>
          <a:stretch/>
        </p:blipFill>
        <p:spPr>
          <a:xfrm>
            <a:off x="609480" y="3505320"/>
            <a:ext cx="8001000" cy="1523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http://texaspolitics.utexas.edu/archive/html/cons/features/0206_01/slide5.gif"/>
          <p:cNvPicPr/>
          <p:nvPr/>
        </p:nvPicPr>
        <p:blipFill>
          <a:blip r:embed="rId3"/>
          <a:stretch/>
        </p:blipFill>
        <p:spPr>
          <a:xfrm>
            <a:off x="685800" y="5257800"/>
            <a:ext cx="7924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Amend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86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it di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Banned slave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the U.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it did NOT d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sure equal r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http://www.drbronsontours.com/sitebuilder/images/emancipation-600x394.jpg"/>
          <p:cNvPicPr/>
          <p:nvPr/>
        </p:nvPicPr>
        <p:blipFill>
          <a:blip r:embed="rId1"/>
          <a:stretch/>
        </p:blipFill>
        <p:spPr>
          <a:xfrm>
            <a:off x="4343400" y="1828800"/>
            <a:ext cx="448452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Amend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86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it di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anted equal citizenship to freedmen (former slaves) and African Americ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it did NOT d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hough Congress assumed this included the right to vote, it was not specified and the South used it to deny freedmen voting righ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s://hulshofschmidt.files.wordpress.com/2012/07/14am.jpg"/>
          <p:cNvPicPr/>
          <p:nvPr/>
        </p:nvPicPr>
        <p:blipFill>
          <a:blip r:embed="rId1"/>
          <a:stretch/>
        </p:blipFill>
        <p:spPr>
          <a:xfrm>
            <a:off x="228600" y="1676520"/>
            <a:ext cx="4338720" cy="4647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Amend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86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What it d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uaranteed freedmen the right to vo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What it did NOT do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tect against state laws that made it difficult for poor black men to vote (i.e.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poll tax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grandfather claus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s://www.loc.gov/rr/program/bib/ourdocs/Images/15th.jpg"/>
          <p:cNvPicPr/>
          <p:nvPr/>
        </p:nvPicPr>
        <p:blipFill>
          <a:blip r:embed="rId1"/>
          <a:stretch/>
        </p:blipFill>
        <p:spPr>
          <a:xfrm>
            <a:off x="4724280" y="1676520"/>
            <a:ext cx="381024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0T15:34:09Z</dcterms:created>
  <dc:creator>e073573</dc:creator>
  <dc:description/>
  <dc:language>en-US</dc:language>
  <cp:lastModifiedBy>e073573</cp:lastModifiedBy>
  <dcterms:modified xsi:type="dcterms:W3CDTF">2015-06-10T16:17:30Z</dcterms:modified>
  <cp:revision>7</cp:revision>
  <dc:subject/>
  <dc:title>The Reconstruction Amendments</dc:title>
</cp:coreProperties>
</file>