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96179-B252-4B97-BEAB-511B60BEB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1FE4-63E8-47EC-8B73-E497E7EAC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9AB4D-A369-4B49-8576-2B351A7D0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6D144-756F-4619-94CE-EEDFEDDEE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381BC-EBD3-4169-8865-F399E5A28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1019-EFDF-428F-9D01-75D3008E0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EDAC2-71A6-4505-8FE0-51789C966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0DB8C-46D6-4AEB-9081-25CC290BC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13BAD-41AF-4CD0-A994-62AF7808C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F7A29-108A-4A5A-BF24-F56006DA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75F89-2BA2-454E-94D8-F44A6C7B9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342AD-B017-4D7D-9A21-A60449C09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BDF2-675C-4E4D-8711-4F6E412AE5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04920"/>
            <a:ext cx="96645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32b29"/>
              </a:solidFill>
              <a:latin typeface="Times New Roman"/>
            </a:endParaRPr>
          </a:p>
        </p:txBody>
      </p:sp>
      <p:sp>
        <p:nvSpPr>
          <p:cNvPr id="42"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a:t>
            </a:r>
            <a:endParaRPr b="0" lang="en-US" sz="3700" spc="-1" strike="noStrike">
              <a:solidFill>
                <a:srgbClr val="000000"/>
              </a:solidFill>
              <a:latin typeface="Times New Roman"/>
            </a:endParaRPr>
          </a:p>
        </p:txBody>
      </p:sp>
      <p:pic>
        <p:nvPicPr>
          <p:cNvPr id="43" name="Picture 4" descr=""/>
          <p:cNvPicPr/>
          <p:nvPr/>
        </p:nvPicPr>
        <p:blipFill>
          <a:blip r:embed="rId1"/>
          <a:stretch/>
        </p:blipFill>
        <p:spPr>
          <a:xfrm>
            <a:off x="1308240" y="380880"/>
            <a:ext cx="75438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133200" y="304920"/>
            <a:ext cx="9723600" cy="1606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Courier New"/>
              </a:rPr>
              <a:t>What should be done about a wife who ignores her duties and belittles her husband?</a:t>
            </a:r>
            <a:endParaRPr b="0" lang="en-US" sz="3700" spc="-1" strike="noStrike">
              <a:solidFill>
                <a:srgbClr val="000000"/>
              </a:solidFill>
              <a:latin typeface="Times New Roman"/>
            </a:endParaRPr>
          </a:p>
        </p:txBody>
      </p:sp>
      <p:sp>
        <p:nvSpPr>
          <p:cNvPr id="62" name="Text Box 5"/>
          <p:cNvSpPr/>
          <p:nvPr/>
        </p:nvSpPr>
        <p:spPr>
          <a:xfrm>
            <a:off x="247680" y="2641680"/>
            <a:ext cx="9521640" cy="3039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Code 143:</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If the woman has not been careful but has gadded about, neglecting her house and belittling her husband, they shall throw that woman into the water.</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654120" y="406440"/>
            <a:ext cx="860112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What happens if if a farmer's irrigations system causes his neighbor to lose his crop?</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654120" y="406440"/>
            <a:ext cx="860112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What happens if if a farmer's irrigations system causes his neighbor to lose his crop?</a:t>
            </a:r>
            <a:endParaRPr b="0" lang="en-US" sz="3500" spc="-1" strike="noStrike">
              <a:solidFill>
                <a:srgbClr val="000000"/>
              </a:solidFill>
              <a:latin typeface="Times New Roman"/>
            </a:endParaRPr>
          </a:p>
        </p:txBody>
      </p:sp>
      <p:sp>
        <p:nvSpPr>
          <p:cNvPr id="65" name="Text Box 5"/>
          <p:cNvSpPr/>
          <p:nvPr/>
        </p:nvSpPr>
        <p:spPr>
          <a:xfrm>
            <a:off x="749160" y="2743200"/>
            <a:ext cx="8509320" cy="1482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666666"/>
                </a:solidFill>
                <a:latin typeface="Courier New"/>
              </a:rPr>
              <a:t>He will pay his neighbor the amount of corn that was lost.</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755640" y="396720"/>
            <a:ext cx="829944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What happens if a man is unable to pay his debt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755640" y="396720"/>
            <a:ext cx="829944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What happens if a man is unable to pay his debts?</a:t>
            </a:r>
            <a:endParaRPr b="0" lang="en-US" sz="3500" spc="-1" strike="noStrike">
              <a:solidFill>
                <a:srgbClr val="000000"/>
              </a:solidFill>
              <a:latin typeface="Times New Roman"/>
            </a:endParaRPr>
          </a:p>
        </p:txBody>
      </p:sp>
      <p:sp>
        <p:nvSpPr>
          <p:cNvPr id="68" name="Text Box 5"/>
          <p:cNvSpPr/>
          <p:nvPr/>
        </p:nvSpPr>
        <p:spPr>
          <a:xfrm>
            <a:off x="552600" y="2031840"/>
            <a:ext cx="8507160" cy="5065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Code 117:</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If a man be in debt and is unable to pay his creditors, he shall sell his wife, son, or daughter, or bind them over to service. For three years they shall work in the houses of their purchaser or master; in the fourth year they shall be given their freedom.</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755640" y="396720"/>
            <a:ext cx="829944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What should happen to a boy who slaps his father?</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755640" y="396720"/>
            <a:ext cx="829944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What should happen to a boy who slaps his father?</a:t>
            </a:r>
            <a:endParaRPr b="0" lang="en-US" sz="3500" spc="-1" strike="noStrike">
              <a:solidFill>
                <a:srgbClr val="000000"/>
              </a:solidFill>
              <a:latin typeface="Times New Roman"/>
            </a:endParaRPr>
          </a:p>
        </p:txBody>
      </p:sp>
      <p:sp>
        <p:nvSpPr>
          <p:cNvPr id="71" name="Text Box 5"/>
          <p:cNvSpPr/>
          <p:nvPr/>
        </p:nvSpPr>
        <p:spPr>
          <a:xfrm>
            <a:off x="749160" y="2743200"/>
            <a:ext cx="850932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Code 195:</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If a son strikes his father, they shall cut off his hand.</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755640" y="396720"/>
            <a:ext cx="829944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What happens if a man accuses someone of murder and it is not proved?</a:t>
            </a:r>
            <a:endParaRPr b="0" lang="en-US" sz="3500" spc="-1" strike="noStrike">
              <a:solidFill>
                <a:srgbClr val="000000"/>
              </a:solidFill>
              <a:latin typeface="Times New Roman"/>
            </a:endParaRPr>
          </a:p>
        </p:txBody>
      </p:sp>
      <p:sp>
        <p:nvSpPr>
          <p:cNvPr id="73" name="Text Box 5"/>
          <p:cNvSpPr/>
          <p:nvPr/>
        </p:nvSpPr>
        <p:spPr>
          <a:xfrm>
            <a:off x="755640" y="3556080"/>
            <a:ext cx="85075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2b29"/>
                </a:solidFill>
                <a:latin typeface="Times New Roman"/>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755640" y="396720"/>
            <a:ext cx="829944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What happens if a man accuses someone of murder and it is not proved?</a:t>
            </a:r>
            <a:endParaRPr b="0" lang="en-US" sz="3500" spc="-1" strike="noStrike">
              <a:solidFill>
                <a:srgbClr val="000000"/>
              </a:solidFill>
              <a:latin typeface="Times New Roman"/>
            </a:endParaRPr>
          </a:p>
        </p:txBody>
      </p:sp>
      <p:sp>
        <p:nvSpPr>
          <p:cNvPr id="75" name="Text Box 5"/>
          <p:cNvSpPr/>
          <p:nvPr/>
        </p:nvSpPr>
        <p:spPr>
          <a:xfrm>
            <a:off x="755640" y="3556080"/>
            <a:ext cx="850752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The accuser will be put to death.</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249120" y="303120"/>
            <a:ext cx="9609120" cy="138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2b29"/>
                </a:solidFill>
                <a:latin typeface="Courier New"/>
              </a:rPr>
              <a:t>How is the truth determined when one man brings an accusation against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45"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Hammurabi was the King and founder of the Babylonian empir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249120" y="303120"/>
            <a:ext cx="9609120" cy="138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2b29"/>
                </a:solidFill>
                <a:latin typeface="Courier New"/>
              </a:rPr>
              <a:t>How is the truth determined when one man brings an accusation against another?</a:t>
            </a:r>
            <a:endParaRPr b="0" lang="en-US" sz="3200" spc="-1" strike="noStrike">
              <a:solidFill>
                <a:srgbClr val="000000"/>
              </a:solidFill>
              <a:latin typeface="Times New Roman"/>
            </a:endParaRPr>
          </a:p>
        </p:txBody>
      </p:sp>
      <p:sp>
        <p:nvSpPr>
          <p:cNvPr id="78" name="Text Box 5"/>
          <p:cNvSpPr/>
          <p:nvPr/>
        </p:nvSpPr>
        <p:spPr>
          <a:xfrm>
            <a:off x="369720" y="1663560"/>
            <a:ext cx="9576000" cy="5033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2b29"/>
                </a:solidFill>
                <a:latin typeface="Courier New"/>
              </a:rPr>
              <a:t>Code 2:</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2b29"/>
                </a:solidFill>
                <a:latin typeface="Courier New"/>
              </a:rPr>
              <a:t>If any one bring an accusation against a man, and the accused go to the river and leap into the river, if he sink in the river his accuser shall take possession of his house. But if the river prove that the accused is not guilty, and he escape unhurt, then he who had brought the accusation shall be put to death, while he who leaped into the river shall take possession of the house that had belonged to his accuser.</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49120" y="303120"/>
            <a:ext cx="96091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2b29"/>
                </a:solidFill>
                <a:latin typeface="Times New Roman"/>
              </a:rPr>
              <a:t> </a:t>
            </a:r>
            <a:endParaRPr b="0" lang="en-US" sz="2700" spc="-1" strike="noStrike">
              <a:solidFill>
                <a:srgbClr val="000000"/>
              </a:solidFill>
              <a:latin typeface="Times New Roman"/>
            </a:endParaRPr>
          </a:p>
        </p:txBody>
      </p:sp>
      <p:sp>
        <p:nvSpPr>
          <p:cNvPr id="80" name="Text Box 5"/>
          <p:cNvSpPr/>
          <p:nvPr/>
        </p:nvSpPr>
        <p:spPr>
          <a:xfrm>
            <a:off x="369720" y="1663560"/>
            <a:ext cx="9576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2b29"/>
                </a:solidFill>
                <a:latin typeface="Times New Roman"/>
              </a:rPr>
              <a:t> </a:t>
            </a:r>
            <a:endParaRPr b="0" lang="en-US" sz="2700" spc="-1" strike="noStrike">
              <a:solidFill>
                <a:srgbClr val="000000"/>
              </a:solidFill>
              <a:latin typeface="Times New Roman"/>
            </a:endParaRPr>
          </a:p>
        </p:txBody>
      </p:sp>
      <p:pic>
        <p:nvPicPr>
          <p:cNvPr id="81" name="Picture 6" descr=""/>
          <p:cNvPicPr/>
          <p:nvPr/>
        </p:nvPicPr>
        <p:blipFill>
          <a:blip r:embed="rId1"/>
          <a:stretch/>
        </p:blipFill>
        <p:spPr>
          <a:xfrm>
            <a:off x="2243160" y="311040"/>
            <a:ext cx="5925960" cy="703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36200" y="533160"/>
            <a:ext cx="863604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Code fair? Explain why you think yes or 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47"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Hammurabi was the King and founder of the Babylonian empir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code contained 282 laws</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Hammurabi was the King and founder of the Babylonian empir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code contained 282 laws</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settled conflict in ALL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a:t>
            </a:r>
            <a:r>
              <a:rPr b="0" lang="en-US" sz="3700" spc="-1" strike="noStrike">
                <a:solidFill>
                  <a:srgbClr val="332b29"/>
                </a:solidFill>
                <a:latin typeface="Times New Roman"/>
              </a:rPr>
              <a:t>areas of life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pic>
        <p:nvPicPr>
          <p:cNvPr id="50" name="Picture 4" descr=""/>
          <p:cNvPicPr/>
          <p:nvPr/>
        </p:nvPicPr>
        <p:blipFill>
          <a:blip r:embed="rId1"/>
          <a:stretch/>
        </p:blipFill>
        <p:spPr>
          <a:xfrm>
            <a:off x="5689440" y="1930320"/>
            <a:ext cx="397368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52"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based on the idea of "eye for an ey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54" name="PlaceHolder 2"/>
          <p:cNvSpPr>
            <a:spLocks noGrp="1"/>
          </p:cNvSpPr>
          <p:nvPr>
            <p:ph/>
          </p:nvPr>
        </p:nvSpPr>
        <p:spPr>
          <a:xfrm>
            <a:off x="247320" y="1015560"/>
            <a:ext cx="9661320" cy="7674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based on the idea of "eye for an ey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punishment should be equal to the crime committed</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pic>
        <p:nvPicPr>
          <p:cNvPr id="55" name="Picture 4" descr=""/>
          <p:cNvPicPr/>
          <p:nvPr/>
        </p:nvPicPr>
        <p:blipFill>
          <a:blip r:embed="rId1"/>
          <a:stretch/>
        </p:blipFill>
        <p:spPr>
          <a:xfrm>
            <a:off x="2743200" y="2641680"/>
            <a:ext cx="4894200" cy="458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450720" y="101520"/>
            <a:ext cx="9122040" cy="1606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Courier New"/>
              </a:rPr>
              <a:t>What should be done to the carpenter who builds a house that falls and kills the owner?</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2240" y="3454200"/>
            <a:ext cx="8723160" cy="42145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2b29"/>
                </a:solidFill>
                <a:latin typeface="Courier New"/>
              </a:rPr>
              <a:t>Code 2:</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2b29"/>
                </a:solidFill>
                <a:latin typeface="Courier New"/>
              </a:rPr>
              <a:t>If a builder builds a house for a man and does not make its construction sound, and the house which he has built collapses and causes the death of the owner of the house, the builder shall be put to death.</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4"/>
          <p:cNvSpPr/>
          <p:nvPr/>
        </p:nvSpPr>
        <p:spPr>
          <a:xfrm>
            <a:off x="450720" y="101520"/>
            <a:ext cx="9122040" cy="1606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Courier New"/>
              </a:rPr>
              <a:t>What should be done to the carpenter who builds a house that falls and kills the owner?</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133200" y="304920"/>
            <a:ext cx="9723600" cy="1606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Courier New"/>
              </a:rPr>
              <a:t>What should be done about a wife who ignores her duties and belittles her husband?</a:t>
            </a:r>
            <a:endParaRPr b="0" lang="en-US" sz="3700" spc="-1" strike="noStrike">
              <a:solidFill>
                <a:srgbClr val="000000"/>
              </a:solidFill>
              <a:latin typeface="Times New Roman"/>
            </a:endParaRPr>
          </a:p>
        </p:txBody>
      </p:sp>
      <p:sp>
        <p:nvSpPr>
          <p:cNvPr id="60" name="Text Box 5"/>
          <p:cNvSpPr/>
          <p:nvPr/>
        </p:nvSpPr>
        <p:spPr>
          <a:xfrm>
            <a:off x="247680" y="2641680"/>
            <a:ext cx="9521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2b29"/>
                </a:solidFill>
                <a:latin typeface="Times New Roman"/>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arren, Waynne S</cp:lastModifiedBy>
  <dcterms:modified xsi:type="dcterms:W3CDTF">2019-06-19T18:47:23Z</dcterms:modified>
  <cp:revision>3</cp:revision>
  <dc:subject/>
  <dc:title>PowerPoint Presentation</dc:title>
</cp:coreProperties>
</file>