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2FC-8B80-467A-87A9-A3A5A534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600-5104-4FBF-BB94-9A75E58C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3E8-2DEC-4926-9EAA-F0449EED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539-E37E-4C58-9C68-E2ECF93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2F3-DA7A-4F12-B044-CACB06A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5A3-B7A4-4535-A115-6C95CA7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D06-625D-468C-A8B1-20953CD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2ED-64E7-4D0C-84D0-B7ACC8C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8C7-DAC9-4A89-AF2E-F4DDDC65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230-264D-4598-8E9B-ED35802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AF7-5C51-432A-9BC1-A450278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C62-9711-4783-834A-2DC897EC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37B8-445C-493D-86F1-5AE45398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0"/>
            <a:ext cx="6095880" cy="83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ient Civilizations M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bel the following pl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opot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dus River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Label and draw the following bodies of w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Nil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Tigris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Euphrates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Indus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Huang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Black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Persian Gu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Red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6:15:40Z</dcterms:created>
  <dc:creator>cestest</dc:creator>
  <dc:description/>
  <dc:language>en-US</dc:language>
  <cp:lastModifiedBy>Warren, Waynne S</cp:lastModifiedBy>
  <cp:lastPrinted>2014-09-04T19:14:05Z</cp:lastPrinted>
  <dcterms:modified xsi:type="dcterms:W3CDTF">2019-06-20T14:19:47Z</dcterms:modified>
  <cp:revision>6</cp:revision>
  <dc:subject/>
  <dc:title>Slide 1</dc:title>
</cp:coreProperties>
</file>