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ED16-6100-4095-86B5-57F25346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D5FD-0E8C-468A-920B-0AF7AE5E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412A-200D-4506-AE0D-0D43E72D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DA9-36ED-41FD-805C-4BE0D17E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CCE2-1E97-4DC9-B02E-F4311FF7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1DFD-6C70-4D5C-A75A-990527E4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2EEF-C9E1-4777-869E-191AA80F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EF8-592C-452E-9CD2-96CD164D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B7B1-E42A-4A35-B4E6-2ADD9B58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8EC4-0433-4817-9C72-C332E0BA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9A0-C706-4EA0-97CE-F30AD996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C797-0A37-4586-AF74-02D1BFAE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AED8-33B3-4A36-AAF1-6D3861B19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4920" y="0"/>
            <a:ext cx="6095880" cy="83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ient Civilizations M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abel the following pla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sopota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g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dus River Va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e8"/>
                </a:solidFill>
                <a:latin typeface="Arial"/>
              </a:rPr>
              <a:t>Label and draw the following bodies of wa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e8"/>
                </a:solidFill>
                <a:latin typeface="Arial"/>
              </a:rPr>
              <a:t>Nile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e8"/>
                </a:solidFill>
                <a:latin typeface="Arial"/>
              </a:rPr>
              <a:t>Tigris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e8"/>
                </a:solidFill>
                <a:latin typeface="Arial"/>
              </a:rPr>
              <a:t>Euphrates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e8"/>
                </a:solidFill>
                <a:latin typeface="Arial"/>
              </a:rPr>
              <a:t>Indus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e8"/>
                </a:solidFill>
                <a:latin typeface="Arial"/>
              </a:rPr>
              <a:t>Huang 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e8"/>
                </a:solidFill>
                <a:latin typeface="Arial"/>
              </a:rPr>
              <a:t>Mediterranean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e8"/>
                </a:solidFill>
                <a:latin typeface="Arial"/>
              </a:rPr>
              <a:t>Black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e8"/>
                </a:solidFill>
                <a:latin typeface="Arial"/>
              </a:rPr>
              <a:t>Persian Gu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e8"/>
                </a:solidFill>
                <a:latin typeface="Arial"/>
              </a:rPr>
              <a:t>Red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e8"/>
                </a:solidFill>
                <a:latin typeface="Arial"/>
              </a:rPr>
              <a:t>Caspian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6:15:40Z</dcterms:created>
  <dc:creator>cestest</dc:creator>
  <dc:description/>
  <dc:language>en-US</dc:language>
  <cp:lastModifiedBy>Warren, Waynne S</cp:lastModifiedBy>
  <cp:lastPrinted>2014-09-04T19:14:05Z</cp:lastPrinted>
  <dcterms:modified xsi:type="dcterms:W3CDTF">2019-06-20T14:19:47Z</dcterms:modified>
  <cp:revision>6</cp:revision>
  <dc:subject/>
  <dc:title>Slide 1</dc:title>
</cp:coreProperties>
</file>