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F3A-A178-4468-997A-E3131AD3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AAB-22D5-4435-9911-70CEBBD6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296-BF02-45D1-9193-B271E7D5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74D-4E74-4B6C-9C53-F0095803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8E9-65B8-476B-9487-AFC2F442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6C7-4FB9-49EC-8411-4B1F570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5A8-07D4-4830-A5A4-0F9485D8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FC4-98FD-4EB3-99F2-EA15EFFC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6FB-7502-4CFC-81C3-A6F983B9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527-126D-4244-972B-CBAD379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C97-4DFC-4537-996B-F444818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AE9-AF0C-4EEA-B37F-D0ACC83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D9E-D6AC-4CA8-9238-4FB860A87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929280" cy="221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27080" y="2971800"/>
            <a:ext cx="35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5:41:25Z</dcterms:created>
  <dc:creator>user</dc:creator>
  <dc:description/>
  <dc:language>en-US</dc:language>
  <cp:lastModifiedBy>user</cp:lastModifiedBy>
  <dcterms:modified xsi:type="dcterms:W3CDTF">2012-06-12T15:42:17Z</dcterms:modified>
  <cp:revision>1</cp:revision>
  <dc:subject/>
  <dc:title>Slide 1</dc:title>
</cp:coreProperties>
</file>