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6BA18-9249-4F13-81D5-BE34030B3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45AA3-9831-4ED3-99F7-A43BB55F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D4E16-60A1-43CF-A9A2-24A6BD0E6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EA69-D48C-459A-9473-9C740C7B4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2FF10-6DE5-4A6D-B83C-F9D3228F8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FE99D-A076-46B7-B12B-577ECD0CD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D9C44-72D5-4BC3-8A30-BDE6A56F0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24E95-03AA-429B-ABC2-634BC0DAA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31890-E1CD-46B4-BBE1-B58168B98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341B-5448-46C3-BE5B-7EF56907D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EE51-2136-42DB-A3EF-95979DB83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83A0-1E08-4D6C-975C-5A748191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2B45E-984E-4A80-B4DF-886910B1E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38972-1542-4D05-BC88-100082F2A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BBE93-336D-4A8F-A6B8-8483DE977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27930-45DF-4345-A6B2-BDBCFE53D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118E8-A4F5-427C-A2EA-470F96E99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8E55B-8379-40A5-8FEA-752D93FFE2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FCBF8-80EB-4197-BA98-6F4B6F889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14D95-A12A-48D6-92DA-D4F8D2DAD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78DEA-D5E6-4210-93A1-20648FD39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1FBC5-5BE9-4FA8-B579-BF58DCFF6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0297-5D60-4FA2-A0DB-E0681EDB3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7D9F8-FBDA-4EA7-9AB6-086D8A820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0D530-6220-437C-9D3A-251FA8136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62D92-05C0-4822-8D64-3754C9CC3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FD75E-18C4-4508-BD51-BAB647793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EF42E-8EE7-427C-8F6C-C4469B33E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42D18D-B6EA-43E1-A22B-17D696B9D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73B39-0189-4294-8F9F-9D93AA22B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A7A50-5D3F-4BCE-ACBB-A60E193C2D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AE101C-5CFA-4EB0-8F63-743562AD7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57D64-22D0-4E8C-87EC-2009B4EDB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2B9F0-DE72-4550-A1D8-A3109963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1914D-DCB4-4C98-A31D-E160D6D47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AE35E-E44D-4298-93E6-EAE69D6AC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64FA2-0433-440F-ABB9-190B0C491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001CB-E900-4DBC-A0B5-1AB9C6EB0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8E5B3-101B-4ED7-B443-9E242DCA0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25B80-D6E9-4277-AB7E-F7D036DB6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FE077-15D4-4259-9D9B-211DFC34A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6ACA34-18DC-44A5-A54F-DEA00CB011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63FA2-454A-4D70-B968-A65AE56951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6AD41-C68D-43D3-B901-53E652C94F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9097-199B-4BB9-BDB1-B21B55EE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D0B84C-EABB-429B-A06D-49C4C8344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58CE2-AAEC-4782-8691-2D80AED3D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E5464-F619-4DFA-B965-3C367AFF4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DDC70-EB73-439D-9215-6473DA272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B9481-D248-4884-B1EE-BAFCF31C7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C2CCC-79D2-4A8D-A9C0-8EBD9B3AA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97E6B-4A30-4462-9E7D-E7CAC4AC9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68D5A-157C-406F-99F0-B006C2A1F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587FB-2B8A-4841-9A73-2EB10C45C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E471C-6107-449B-8CB7-937B51D9B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708B1-CED7-45E0-AA41-17335D07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DDCE2F-2DBD-4638-9A3D-51F92EA73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8512-272E-446B-BA10-790F2F45C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9C96-EC59-4A56-8943-134C598B6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214B-1251-4598-9B74-35308FC5B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3FF72-B6B4-425F-AEC3-2D1FB2876D42}"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68F6B-BF60-46A3-9D97-CA6E85F6A71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772E5-FC16-4D28-BEBA-57579574A019}" type="datetime">
              <a:rPr b="0" lang="en-US" sz="1000" spc="-1" strike="noStrike">
                <a:solidFill>
                  <a:srgbClr val="ffffff"/>
                </a:solidFill>
                <a:latin typeface="Trebuchet MS"/>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EEF52-EA75-4712-9110-DD492BA8EDEB}"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19C60-B698-4C5C-B544-3766C2201739}"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706DB-56C8-44B6-987E-B0DB4CC9A9D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EE593-4698-47C7-A42D-E2C25CED9E1D}"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1827B-5AF5-4C63-AB0D-3674FC47E79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0A576-5114-4B21-BD9B-A23BE67405B9}"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317F2-425A-48B9-9B8A-8AB1E4DF2A7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3359160" y="231840"/>
            <a:ext cx="5119560" cy="1914480"/>
          </a:xfrm>
          <a:prstGeom prst="rect">
            <a:avLst/>
          </a:prstGeom>
          <a:ln w="0">
            <a:noFill/>
          </a:ln>
        </p:spPr>
      </p:pic>
      <p:sp>
        <p:nvSpPr>
          <p:cNvPr id="221" name="PlaceHolder 1"/>
          <p:cNvSpPr>
            <a:spLocks noGrp="1"/>
          </p:cNvSpPr>
          <p:nvPr>
            <p:ph type="subTitle"/>
          </p:nvPr>
        </p:nvSpPr>
        <p:spPr>
          <a:xfrm>
            <a:off x="3367080" y="4739760"/>
            <a:ext cx="5114880" cy="211788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imeline of Key Historical Events Affecting the Action of the Play</a:t>
            </a:r>
            <a:endParaRPr b="0" lang="en-US" sz="2800" spc="-1" strike="noStrike">
              <a:solidFill>
                <a:srgbClr val="000000"/>
              </a:solidFill>
              <a:latin typeface="Trebuchet MS"/>
            </a:endParaRPr>
          </a:p>
        </p:txBody>
      </p:sp>
      <p:pic>
        <p:nvPicPr>
          <p:cNvPr id="222" name="Picture 3" descr="MC900036453(2).WMF"/>
          <p:cNvPicPr/>
          <p:nvPr/>
        </p:nvPicPr>
        <p:blipFill>
          <a:blip r:embed="rId3"/>
          <a:stretch/>
        </p:blipFill>
        <p:spPr>
          <a:xfrm>
            <a:off x="5076720" y="2319480"/>
            <a:ext cx="134640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Title 1" descr=""/>
          <p:cNvPicPr/>
          <p:nvPr/>
        </p:nvPicPr>
        <p:blipFill>
          <a:blip r:embed="rId2"/>
          <a:stretch/>
        </p:blipFill>
        <p:spPr>
          <a:xfrm>
            <a:off x="450720" y="-6480"/>
            <a:ext cx="7248600" cy="2103480"/>
          </a:xfrm>
          <a:prstGeom prst="rect">
            <a:avLst/>
          </a:prstGeom>
          <a:ln w="0">
            <a:noFill/>
          </a:ln>
        </p:spPr>
      </p:pic>
      <p:sp>
        <p:nvSpPr>
          <p:cNvPr id="224" name=""/>
          <p:cNvSpPr txBox="1"/>
          <p:nvPr/>
        </p:nvSpPr>
        <p:spPr>
          <a:xfrm>
            <a:off x="457200" y="2584080"/>
            <a:ext cx="7238880" cy="45687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60 BC: “The First Triumvirate” or “The Three-Headed Monster.”  Pompey, Crassus, Caes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59 BC:  Caesar gives his only daughter, Julia, in marriage to Pompey.  Caesar, as Consul, angers the powerful Optimate political party, which threatens to prosecute him at the end of his term.</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26" name=""/>
          <p:cNvSpPr txBox="1"/>
          <p:nvPr/>
        </p:nvSpPr>
        <p:spPr>
          <a:xfrm>
            <a:off x="457200" y="1787400"/>
            <a:ext cx="7238880" cy="5353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9 BC:  Caesar’s term as Proconsul in Gaul expires.  Pompey and the Senate order him to disband his army and return to Rome, where he will face the prosecution from which he has been immune.  Disobeying the order to disband, Caesar and his troops cross the Rubicon River, entering the jurisdiction in which he can be seized and imprisoned, essentially declaring civil war against his former all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28" name=""/>
          <p:cNvSpPr txBox="1"/>
          <p:nvPr/>
        </p:nvSpPr>
        <p:spPr>
          <a:xfrm>
            <a:off x="457200" y="201096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8 BC:  -Caesar’s troops defeat Pompey’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Pompey flees to Egyp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Caesar follows and is presented with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Pompey’s head.  The Egyptians ha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betrayed Pompey and killed him as a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gift” for Caesar.</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0" name=""/>
          <p:cNvSpPr txBox="1"/>
          <p:nvPr/>
        </p:nvSpPr>
        <p:spPr>
          <a:xfrm>
            <a:off x="457200" y="201096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6 BC: -Caesar returns triumphantly to Ro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is marks the beginning of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Shakespeare’s play.)</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Caesar is appointed Dictator, and </a:t>
            </a:r>
            <a:r>
              <a:rPr b="0" lang="en-US" sz="2600" spc="-1" strike="noStrike">
                <a:solidFill>
                  <a:srgbClr val="000000"/>
                </a:solidFill>
                <a:latin typeface="Trebuchet MS"/>
              </a:rPr>
              <a:t>	</a:t>
            </a:r>
            <a:r>
              <a:rPr b="0" lang="en-US" sz="2600" spc="-1" strike="noStrike">
                <a:solidFill>
                  <a:srgbClr val="000000"/>
                </a:solidFill>
                <a:latin typeface="Trebuchet MS"/>
              </a:rPr>
              <a:t>      many question his autocratic/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tyrannical rule and see hi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governing as a threat to the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Republic.</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7238880" cy="75096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2" name=""/>
          <p:cNvSpPr txBox="1"/>
          <p:nvPr/>
        </p:nvSpPr>
        <p:spPr>
          <a:xfrm>
            <a:off x="457200" y="1071360"/>
            <a:ext cx="7238880" cy="57862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5 BC:  Caesar plans a public celebration for his triumph over Pompey.  This angers many, since only triumphs over </a:t>
            </a:r>
            <a:r>
              <a:rPr b="0" i="1" lang="en-US" sz="2600" spc="-1" strike="noStrike">
                <a:solidFill>
                  <a:srgbClr val="000000"/>
                </a:solidFill>
                <a:latin typeface="Trebuchet MS"/>
              </a:rPr>
              <a:t>foreign</a:t>
            </a:r>
            <a:r>
              <a:rPr b="0" lang="en-US" sz="2600" spc="-1" strike="noStrike">
                <a:solidFill>
                  <a:srgbClr val="000000"/>
                </a:solidFill>
                <a:latin typeface="Trebuchet MS"/>
              </a:rPr>
              <a:t> “enemies” are to be celebrated.  Pompey was a fellow Roman.  Caesar acts more and more like a monarch, appointing people to government posts with no input or consent of the Senate, issuing coins with his likeness, etc.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 allows his statues to be decorated in much the same way that statues of the gods would be. (Act I, scene 2:  Marullus and Flavius are punished for removing adornments from Caesar’s statue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7238880" cy="87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4" name=""/>
          <p:cNvSpPr txBox="1"/>
          <p:nvPr/>
        </p:nvSpPr>
        <p:spPr>
          <a:xfrm>
            <a:off x="457200" y="1196640"/>
            <a:ext cx="7238880" cy="5661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4 BC:  -At the feast of Lupercali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February 15), Caesar is named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i="1" lang="en-US" sz="2600" spc="-1" strike="noStrike">
                <a:solidFill>
                  <a:srgbClr val="000000"/>
                </a:solidFill>
                <a:latin typeface="Trebuchet MS"/>
              </a:rPr>
              <a:t>dictator perpetuus</a:t>
            </a:r>
            <a:r>
              <a:rPr b="0" lang="en-US" sz="2600" spc="-1" strike="noStrike">
                <a:solidFill>
                  <a:srgbClr val="000000"/>
                </a:solidFill>
                <a:latin typeface="Trebuchet MS"/>
              </a:rPr>
              <a:t>, perpetual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dictator.</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Caesar is assassinated on the portico</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of the theater built by Pompey the    </a:t>
            </a:r>
            <a:r>
              <a:rPr b="0" lang="en-US" sz="2600" spc="-1" strike="noStrike">
                <a:solidFill>
                  <a:srgbClr val="000000"/>
                </a:solidFill>
                <a:latin typeface="Trebuchet MS"/>
              </a:rPr>
              <a:t>	</a:t>
            </a:r>
            <a:r>
              <a:rPr b="0" lang="en-US" sz="2600" spc="-1" strike="noStrike">
                <a:solidFill>
                  <a:srgbClr val="000000"/>
                </a:solidFill>
                <a:latin typeface="Trebuchet MS"/>
              </a:rPr>
              <a:t>      Great.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Shakespeare alludes to both the feast of the Lupercalia and the Ides (15</a:t>
            </a:r>
            <a:r>
              <a:rPr b="0" lang="en-US" sz="2600" spc="-1" strike="noStrike" baseline="30000">
                <a:solidFill>
                  <a:srgbClr val="000000"/>
                </a:solidFill>
                <a:latin typeface="Trebuchet MS"/>
              </a:rPr>
              <a:t>th</a:t>
            </a:r>
            <a:r>
              <a:rPr b="0" lang="en-US" sz="2600" spc="-1" strike="noStrike">
                <a:solidFill>
                  <a:srgbClr val="000000"/>
                </a:solidFill>
                <a:latin typeface="Trebuchet MS"/>
              </a:rPr>
              <a:t>) of March, even though he seems to condense the appointment and the assassination into a single even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14280"/>
            <a:ext cx="7238880" cy="581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pic>
        <p:nvPicPr>
          <p:cNvPr id="236" name="Content Placeholder 2" descr=""/>
          <p:cNvPicPr/>
          <p:nvPr/>
        </p:nvPicPr>
        <p:blipFill>
          <a:blip r:embed="rId2"/>
          <a:stretch/>
        </p:blipFill>
        <p:spPr>
          <a:xfrm>
            <a:off x="450720" y="1182600"/>
            <a:ext cx="7248600" cy="568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Title 1" descr=""/>
          <p:cNvPicPr/>
          <p:nvPr/>
        </p:nvPicPr>
        <p:blipFill>
          <a:blip r:embed="rId2"/>
          <a:stretch/>
        </p:blipFill>
        <p:spPr>
          <a:xfrm>
            <a:off x="450720" y="317520"/>
            <a:ext cx="7248600" cy="1170000"/>
          </a:xfrm>
          <a:prstGeom prst="rect">
            <a:avLst/>
          </a:prstGeom>
          <a:ln w="0">
            <a:noFill/>
          </a:ln>
        </p:spPr>
      </p:pic>
      <p:sp>
        <p:nvSpPr>
          <p:cNvPr id="238" name=""/>
          <p:cNvSpPr txBox="1"/>
          <p:nvPr/>
        </p:nvSpPr>
        <p:spPr>
          <a:xfrm>
            <a:off x="457200" y="201096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ott, Elizabeth. </a:t>
            </a:r>
            <a:r>
              <a:rPr b="0" i="1" lang="en-US" sz="2600" spc="-1" strike="noStrike">
                <a:solidFill>
                  <a:srgbClr val="000000"/>
                </a:solidFill>
                <a:latin typeface="Trebuchet MS"/>
              </a:rPr>
              <a:t>Advanced Placement in English Literature and Composition Teaching Unit: Julius Caesar by William Shakespeare</a:t>
            </a:r>
            <a:r>
              <a:rPr b="0" lang="en-US" sz="2600" spc="-1" strike="noStrike">
                <a:solidFill>
                  <a:srgbClr val="000000"/>
                </a:solidFill>
                <a:latin typeface="Trebuchet MS"/>
              </a:rPr>
              <a:t>.  Prestwick House, 2006.</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3:52:42Z</dcterms:created>
  <dc:creator>Heather Patillo</dc:creator>
  <dc:description/>
  <dc:language>en-US</dc:language>
  <cp:lastModifiedBy>Heather Patillo</cp:lastModifiedBy>
  <dcterms:modified xsi:type="dcterms:W3CDTF">2015-06-12T16:53:51Z</dcterms:modified>
  <cp:revision>119</cp:revision>
  <dc:subject/>
  <dc:title>Shakespeare’s  Julius Caesar</dc:title>
</cp:coreProperties>
</file>