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8E4-5B65-418A-8D57-CB4B1005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3FC-5B4C-4E06-930B-E494A4E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75B-2432-469D-9718-1B02A779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EBA-C1A0-46DE-BF29-1F993E83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F14-771C-442A-A246-016B189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0B6-36CA-4601-9F7C-811199AD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E58-7938-43C1-8D12-D1647E7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1E5-8F1D-4052-BCE3-204AB43C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C34-82EB-41DC-A315-9216A03E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83C-1BD8-42FC-8DC6-A8910B0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FD3-A5E8-435A-873D-81A2279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88A-83B8-41B9-B5DD-3928009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C8A3-459F-45B3-AC12-97E937B59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507960" y="304920"/>
            <a:ext cx="8298000" cy="1271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360" y="304920"/>
            <a:ext cx="8412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ne-Robert Cavelier, Sier de La Sa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507960" y="1778040"/>
            <a:ext cx="406404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762120" y="6603840"/>
            <a:ext cx="8721720" cy="797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04880" y="6603840"/>
            <a:ext cx="8835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592200" y="1523880"/>
            <a:ext cx="4233960" cy="4911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5164200" y="1523880"/>
            <a:ext cx="43196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507960" y="304920"/>
            <a:ext cx="8298000" cy="1271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304920"/>
            <a:ext cx="8412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507960" y="1778040"/>
            <a:ext cx="618192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0360" y="1778040"/>
            <a:ext cx="62960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rn in France in 164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666 sailed to New France where he was given la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nted to find a way to get to China so he set out on several expedi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6688080" y="1184400"/>
            <a:ext cx="32814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762120" y="1100160"/>
            <a:ext cx="829764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1100160"/>
            <a:ext cx="8412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No rout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592200" y="3556080"/>
            <a:ext cx="8299440" cy="3895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4960" y="3555720"/>
            <a:ext cx="8413920" cy="38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 La Salle realized there wasn’t a route to China, he changed his reason for exploring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1685, during his 2nd exploration into Texas, he explored to help France gain more land. When he reached Texas, he set up French forts in Tex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6"/>
          <a:stretch/>
        </p:blipFill>
        <p:spPr>
          <a:xfrm>
            <a:off x="4740120" y="0"/>
            <a:ext cx="42357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507960" y="592200"/>
            <a:ext cx="90313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762120" y="1100160"/>
            <a:ext cx="8297640" cy="127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5"/>
          <a:stretch/>
        </p:blipFill>
        <p:spPr>
          <a:xfrm>
            <a:off x="592200" y="3556080"/>
            <a:ext cx="8299440" cy="3895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749840" y="456840"/>
            <a:ext cx="5410080" cy="74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what we know about La Salle we learned from a man named Pierre Margry, who published a work called, </a:t>
            </a:r>
            <a:r>
              <a:rPr b="0" i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Découvertes et établissements des Français dans l'ouest et dans le sud de l'Amérique septentrional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Margry was a French historian who documented the history of France in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5003640" cy="4361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279360" y="46483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gry took letters, journal entries, and reports that were written about the French exploration of North America and created the French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507960" y="304920"/>
            <a:ext cx="8298000" cy="1271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0360" y="304920"/>
            <a:ext cx="8412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s of French and Spanish Explo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5"/>
          <a:stretch/>
        </p:blipFill>
        <p:spPr>
          <a:xfrm>
            <a:off x="507960" y="1778040"/>
            <a:ext cx="8298000" cy="5029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360" y="1778040"/>
            <a:ext cx="8412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ain worried French would claim more land in Texa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ain decided to build Missions to protect Texas land from other count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C:\Users\Carrie\AppData\Local\Microsoft\Windows\Temporary Internet Files\Content.IE5\F9V0P1NO\MP900403227[1].jpg"/>
          <p:cNvPicPr/>
          <p:nvPr/>
        </p:nvPicPr>
        <p:blipFill>
          <a:blip r:embed="rId6"/>
          <a:stretch/>
        </p:blipFill>
        <p:spPr>
          <a:xfrm>
            <a:off x="2108160" y="373392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5280120"/>
            <a:ext cx="10159920" cy="23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8128080" y="0"/>
            <a:ext cx="2031840" cy="762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507960" y="304920"/>
            <a:ext cx="8298000" cy="1271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304920"/>
            <a:ext cx="8412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507960" y="1778040"/>
            <a:ext cx="829800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31640" y="1447920"/>
            <a:ext cx="8412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www.baumanrarebooks.com/rare-books/margry-pierre/decouvertes-et/12377.asp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www.enchantedlearning.com/explorers/page/l/lasalle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paulinespiratesandprivateers.blogspot.com/2012/04/people-man-who-would-build-empires.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www.texasbeyondhistory.net/belle/index.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en.wikipedia.org/wiki/Ren%C3%A9-Robert_Cavelier,_Sieur_de_La_Sal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arrie</cp:lastModifiedBy>
  <dcterms:modified xsi:type="dcterms:W3CDTF">2012-06-14T18:01:03Z</dcterms:modified>
  <cp:revision>3</cp:revision>
  <dc:subject/>
  <dc:title>PowerPoint Presentation</dc:title>
</cp:coreProperties>
</file>