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07960" y="720360"/>
            <a:ext cx="270036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CF119-D65A-4D6F-BE1D-19BEFEF5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652D3-D2C9-43E1-B4A9-215143D7D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308320" y="720720"/>
            <a:ext cx="270036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85412-9CCF-404A-A20E-4A4FFAB9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308320" y="720720"/>
            <a:ext cx="270036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938-37BA-45A8-8695-FF34ED2C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13B-024B-4476-8976-CDC97B19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178-B4BC-4279-9513-AE858155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073-2E65-46C7-93EF-50325D39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87F-3897-48CB-A474-BAAA9242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4EB-CEAA-4504-AA55-6836EF8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E95-A726-451B-8096-4E90555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8AE-EA4A-4442-BA4C-6C5AB57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778-A7A6-4F0D-985F-23022AFB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927-BBF8-4F77-858F-4137387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00A-DAFA-4282-8C50-7E23BE90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7CF-8041-4B19-AC33-9F7BFE8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9C0-196A-4D30-859A-54545404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3"/>
          <p:cNvSpPr/>
          <p:nvPr/>
        </p:nvSpPr>
        <p:spPr>
          <a:xfrm>
            <a:off x="533520" y="533520"/>
            <a:ext cx="5867280" cy="243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4"/>
          <p:cNvSpPr/>
          <p:nvPr/>
        </p:nvSpPr>
        <p:spPr>
          <a:xfrm>
            <a:off x="861840" y="623880"/>
            <a:ext cx="5919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844560" y="143208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 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________________________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844560" y="17366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847800" y="1943280"/>
            <a:ext cx="221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ig Money Ban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0"/>
          <p:cNvSpPr/>
          <p:nvPr/>
        </p:nvSpPr>
        <p:spPr>
          <a:xfrm>
            <a:off x="844560" y="24224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 ____________________________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863640" y="127944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2"/>
          <p:cNvSpPr/>
          <p:nvPr/>
        </p:nvSpPr>
        <p:spPr>
          <a:xfrm>
            <a:off x="838080" y="264636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CR A Extended"/>
              </a:rPr>
              <a:t>|:987654321|:   8086545309    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3"/>
          <p:cNvSpPr/>
          <p:nvPr/>
        </p:nvSpPr>
        <p:spPr>
          <a:xfrm>
            <a:off x="5562720" y="457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New Times Roman"/>
              </a:rPr>
              <a:t>No. 0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4"/>
          <p:cNvSpPr/>
          <p:nvPr/>
        </p:nvSpPr>
        <p:spPr>
          <a:xfrm>
            <a:off x="533520" y="3276720"/>
            <a:ext cx="5867280" cy="243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5"/>
          <p:cNvSpPr/>
          <p:nvPr/>
        </p:nvSpPr>
        <p:spPr>
          <a:xfrm>
            <a:off x="861840" y="3367080"/>
            <a:ext cx="5919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m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6"/>
          <p:cNvSpPr/>
          <p:nvPr/>
        </p:nvSpPr>
        <p:spPr>
          <a:xfrm>
            <a:off x="844560" y="417528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 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________________________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7"/>
          <p:cNvSpPr/>
          <p:nvPr/>
        </p:nvSpPr>
        <p:spPr>
          <a:xfrm>
            <a:off x="844560" y="44798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8"/>
          <p:cNvSpPr/>
          <p:nvPr/>
        </p:nvSpPr>
        <p:spPr>
          <a:xfrm>
            <a:off x="847800" y="4686480"/>
            <a:ext cx="221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ig Money Ban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1"/>
          <p:cNvSpPr/>
          <p:nvPr/>
        </p:nvSpPr>
        <p:spPr>
          <a:xfrm>
            <a:off x="844560" y="51656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2"/>
          <p:cNvSpPr/>
          <p:nvPr/>
        </p:nvSpPr>
        <p:spPr>
          <a:xfrm>
            <a:off x="871560" y="402264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3"/>
          <p:cNvSpPr/>
          <p:nvPr/>
        </p:nvSpPr>
        <p:spPr>
          <a:xfrm>
            <a:off x="838080" y="538956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CR A Extended"/>
              </a:rPr>
              <a:t>|:987654321|:   8086545309    0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4"/>
          <p:cNvSpPr/>
          <p:nvPr/>
        </p:nvSpPr>
        <p:spPr>
          <a:xfrm>
            <a:off x="556272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New Times Roman"/>
              </a:rPr>
              <a:t>No. 0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5"/>
          <p:cNvSpPr/>
          <p:nvPr/>
        </p:nvSpPr>
        <p:spPr>
          <a:xfrm>
            <a:off x="533520" y="6019920"/>
            <a:ext cx="5867280" cy="243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6"/>
          <p:cNvSpPr/>
          <p:nvPr/>
        </p:nvSpPr>
        <p:spPr>
          <a:xfrm>
            <a:off x="861840" y="6110280"/>
            <a:ext cx="5919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844560" y="691848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 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________________________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8"/>
          <p:cNvSpPr/>
          <p:nvPr/>
        </p:nvSpPr>
        <p:spPr>
          <a:xfrm>
            <a:off x="844560" y="72230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9"/>
          <p:cNvSpPr/>
          <p:nvPr/>
        </p:nvSpPr>
        <p:spPr>
          <a:xfrm>
            <a:off x="847800" y="7429680"/>
            <a:ext cx="221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ig Money Ban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2"/>
          <p:cNvSpPr/>
          <p:nvPr/>
        </p:nvSpPr>
        <p:spPr>
          <a:xfrm>
            <a:off x="844560" y="7908840"/>
            <a:ext cx="58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 _______________________________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nature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3"/>
          <p:cNvSpPr/>
          <p:nvPr/>
        </p:nvSpPr>
        <p:spPr>
          <a:xfrm>
            <a:off x="863640" y="676584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4"/>
          <p:cNvSpPr/>
          <p:nvPr/>
        </p:nvSpPr>
        <p:spPr>
          <a:xfrm>
            <a:off x="838080" y="813276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CR A Extended"/>
              </a:rPr>
              <a:t>|:987654321|:   8086545309    0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5"/>
          <p:cNvSpPr/>
          <p:nvPr/>
        </p:nvSpPr>
        <p:spPr>
          <a:xfrm>
            <a:off x="5562720" y="5943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New Times Roman"/>
              </a:rPr>
              <a:t>No. 0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533520" y="3048120"/>
            <a:ext cx="5867280" cy="243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61840" y="3138480"/>
            <a:ext cx="59198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arlie Bigbucks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3 Savings Dri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sperity City, HI 96822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Date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844560" y="3946680"/>
            <a:ext cx="58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Order of  _______________________________________________________   $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844560" y="4251240"/>
            <a:ext cx="58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Dol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847800" y="4457880"/>
            <a:ext cx="2214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idsMoneyFarm Ban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851040" y="4672080"/>
            <a:ext cx="2921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0 Friendly L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847800" y="4562640"/>
            <a:ext cx="211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ey Tree, HI 968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844560" y="4937040"/>
            <a:ext cx="58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Memo_____________________________________                   Signature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863640" y="379404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cript MT Bold"/>
              </a:rPr>
              <a:t>Pay to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838080" y="516096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OCR A Extended"/>
              </a:rPr>
              <a:t>|:987654321|:   8086545309    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56272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New Times Roman"/>
              </a:rPr>
              <a:t>No. 0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2819520" y="3276720"/>
            <a:ext cx="144756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KidsMoneyFarm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1447920" y="3809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me of person/company t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991040" y="3753000"/>
            <a:ext cx="1333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Write numeric dollar amount her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5105520" y="3809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79.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181480" y="3382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June 12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200560" y="3263760"/>
            <a:ext cx="1067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Write today’s date her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447920" y="3759120"/>
            <a:ext cx="3124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Write the name of the person or company you are paying he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885960" y="4095720"/>
            <a:ext cx="3124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Write out the full dollar amount you are paying in words he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838080" y="415296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Two Hundred Seventy Nine Dollars and 34/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4638600" y="48387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cript MT Bold"/>
              </a:rPr>
              <a:t>Charlie Bigb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4648320" y="4768920"/>
            <a:ext cx="1333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Sign YOUR name her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190520" y="4772160"/>
            <a:ext cx="1333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 u="sng">
                <a:solidFill>
                  <a:srgbClr val="3366ff"/>
                </a:solidFill>
                <a:uFillTx/>
                <a:latin typeface="Arial"/>
              </a:rPr>
              <a:t>Write a note here if you wish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190520" y="49086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ave a GREAT Day!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838080" y="1676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 completed check should look 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9:27:02Z</dcterms:created>
  <dc:creator>Christopher Miyamoto</dc:creator>
  <dc:description/>
  <dc:language>en-US</dc:language>
  <cp:lastModifiedBy>Samantha Bos</cp:lastModifiedBy>
  <dcterms:modified xsi:type="dcterms:W3CDTF">2015-06-10T23:27:10Z</dcterms:modified>
  <cp:revision>8</cp:revision>
  <dc:subject/>
  <dc:title>Slide 1</dc:title>
</cp:coreProperties>
</file>