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62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</p:sldMasterIdLst>
  <p:notesMasterIdLst>
    <p:notesMasterId r:id="rId74"/>
  </p:notesMasterIdLst>
  <p:sldIdLst>
    <p:sldId id="256" r:id="rId75"/>
    <p:sldId id="257" r:id="rId76"/>
    <p:sldId id="258" r:id="rId77"/>
    <p:sldId id="259" r:id="rId78"/>
    <p:sldId id="260" r:id="rId79"/>
    <p:sldId id="261" r:id="rId80"/>
    <p:sldId id="262" r:id="rId81"/>
    <p:sldId id="26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notesMaster" Target="notesMasters/notesMaster1.xml"/><Relationship Id="rId75" Type="http://schemas.openxmlformats.org/officeDocument/2006/relationships/slide" Target="slides/slide1.xml"/><Relationship Id="rId76" Type="http://schemas.openxmlformats.org/officeDocument/2006/relationships/slide" Target="slides/slide2.xml"/><Relationship Id="rId77" Type="http://schemas.openxmlformats.org/officeDocument/2006/relationships/slide" Target="slides/slide3.xml"/><Relationship Id="rId78" Type="http://schemas.openxmlformats.org/officeDocument/2006/relationships/slide" Target="slides/slide4.xml"/><Relationship Id="rId79" Type="http://schemas.openxmlformats.org/officeDocument/2006/relationships/slide" Target="slides/slide5.xml"/><Relationship Id="rId80" Type="http://schemas.openxmlformats.org/officeDocument/2006/relationships/slide" Target="slides/slide6.xml"/><Relationship Id="rId81" Type="http://schemas.openxmlformats.org/officeDocument/2006/relationships/slide" Target="slides/slide7.xml"/><Relationship Id="rId82" Type="http://schemas.openxmlformats.org/officeDocument/2006/relationships/slide" Target="slides/slide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 type="dt" idx="2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PlaceHolder 5"/>
          <p:cNvSpPr>
            <a:spLocks noGrp="1"/>
          </p:cNvSpPr>
          <p:nvPr>
            <p:ph type="ftr" idx="2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PlaceHolder 6"/>
          <p:cNvSpPr>
            <a:spLocks noGrp="1"/>
          </p:cNvSpPr>
          <p:nvPr>
            <p:ph type="sldNum" idx="2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8ABD-82DE-48A7-AB95-594574025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64A4-302A-4B3F-8602-4DDC2B8D3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33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66"/>
                </a:solidFill>
                <a:latin typeface="Arial"/>
                <a:ea typeface="Arial"/>
              </a:rPr>
              <a:t>1SS-E17. Describe the aspirations, ideals, and events that served as the foundation for the creation of a new national government, with emphasis on:</a:t>
            </a:r>
            <a:r>
              <a:rPr b="1" lang="en-US" sz="1200" spc="-1" strike="noStrike">
                <a:solidFill>
                  <a:srgbClr val="333366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66"/>
                </a:solidFill>
                <a:latin typeface="Arial"/>
                <a:ea typeface="Arial"/>
              </a:rPr>
              <a:t>PO 4. Struggles over ratification of the Constitution and the creation of 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9047-0F48-4ABF-B68D-61AE77600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33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66"/>
                </a:solidFill>
                <a:latin typeface="Arial"/>
                <a:ea typeface="Arial"/>
              </a:rPr>
              <a:t>1SS-E17. Describe the aspirations, ideals, and events that served as the foundation for the creation of a new national government, with emphasis on:</a:t>
            </a:r>
            <a:r>
              <a:rPr b="1" lang="en-US" sz="1200" spc="-1" strike="noStrike">
                <a:solidFill>
                  <a:srgbClr val="333366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66"/>
                </a:solidFill>
                <a:latin typeface="Arial"/>
                <a:ea typeface="Arial"/>
              </a:rPr>
              <a:t>PO 4. Struggles over ratification of the Constitution and the creation of 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1A32-C757-4673-A79B-9537CDE27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33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66"/>
                </a:solidFill>
                <a:latin typeface="Arial"/>
                <a:ea typeface="Arial"/>
              </a:rPr>
              <a:t>1SS-E17. Describe the aspirations, ideals, and events that served as the foundation for the creation of a new national government, with emphasis on:</a:t>
            </a:r>
            <a:r>
              <a:rPr b="1" lang="en-US" sz="1200" spc="-1" strike="noStrike">
                <a:solidFill>
                  <a:srgbClr val="333366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66"/>
                </a:solidFill>
                <a:latin typeface="Arial"/>
                <a:ea typeface="Arial"/>
              </a:rPr>
              <a:t>PO 4. Struggles over ratification of the Constitution and the creation of 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FD02-09F1-4B7C-95FA-0C7669A9F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33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66"/>
                </a:solidFill>
                <a:latin typeface="Arial"/>
                <a:ea typeface="Arial"/>
              </a:rPr>
              <a:t>1SS-E17. Describe the aspirations, ideals, and events that served as the foundation for the creation of a new national government, with emphasis on:</a:t>
            </a:r>
            <a:r>
              <a:rPr b="1" lang="en-US" sz="1200" spc="-1" strike="noStrike">
                <a:solidFill>
                  <a:srgbClr val="333366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66"/>
                </a:solidFill>
                <a:latin typeface="Arial"/>
                <a:ea typeface="Arial"/>
              </a:rPr>
              <a:t>PO 4. Struggles over ratification of the Constitution and the creation of 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FF48-1CAA-4DA9-BE24-ECF70ABE1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33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66"/>
                </a:solidFill>
                <a:latin typeface="Arial"/>
                <a:ea typeface="Arial"/>
              </a:rPr>
              <a:t>1SS-E17. Describe the aspirations, ideals, and events that served as the foundation for the creation of a new national government, with emphasis on:</a:t>
            </a:r>
            <a:r>
              <a:rPr b="1" lang="en-US" sz="1200" spc="-1" strike="noStrike">
                <a:solidFill>
                  <a:srgbClr val="333366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66"/>
                </a:solidFill>
                <a:latin typeface="Arial"/>
                <a:ea typeface="Arial"/>
              </a:rPr>
              <a:t>PO 4. Struggles over ratification of the Constitution and the creation of 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414B-642E-4BE3-83F9-D21857FF0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33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66"/>
                </a:solidFill>
                <a:latin typeface="Arial"/>
                <a:ea typeface="Arial"/>
              </a:rPr>
              <a:t>1SS-E17. Describe the aspirations, ideals, and events that served as the foundation for the creation of a new national government, with emphasis on:</a:t>
            </a:r>
            <a:r>
              <a:rPr b="1" lang="en-US" sz="1200" spc="-1" strike="noStrike">
                <a:solidFill>
                  <a:srgbClr val="333366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66"/>
                </a:solidFill>
                <a:latin typeface="Arial"/>
                <a:ea typeface="Arial"/>
              </a:rPr>
              <a:t>PO 4. Struggles over ratification of the Constitution and the creation of 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1D63-1950-4B29-BD8F-DE920E2DF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33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66"/>
                </a:solidFill>
                <a:latin typeface="Arial"/>
                <a:ea typeface="Arial"/>
              </a:rPr>
              <a:t>1SS-E17. Describe the aspirations, ideals, and events that served as the foundation for the creation of a new national government, with emphasis on:</a:t>
            </a:r>
            <a:r>
              <a:rPr b="1" lang="en-US" sz="1200" spc="-1" strike="noStrike">
                <a:solidFill>
                  <a:srgbClr val="333366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66"/>
                </a:solidFill>
                <a:latin typeface="Arial"/>
                <a:ea typeface="Arial"/>
              </a:rPr>
              <a:t>PO 4. Struggles over ratification of the Constitution and the creation of 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16F-4000-46C4-8C84-853C2D89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034-BC41-4B12-B058-2003A521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EE418-FDEA-4792-9E91-D2C77B49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F7D02-C374-454D-9946-435BAD1A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6A422-0F32-44CD-A448-BF584119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968D0-68EE-44B3-9D32-A8A312CC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8279F-A272-48E8-8C47-343396CA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1653F-92B1-4483-8359-35EDD694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2EC52-B770-477C-AAC0-E7E543B7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C73CE-979E-464A-8F94-4698994C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8B31F-8970-47EC-A2C8-31EBE66E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DB7FD-97B1-4B05-BA9A-C91D606F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C76F-DD0B-44B2-821E-009E07A3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CA6E7-687B-4ACD-AE60-040B66D5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7CB26-EC77-4494-AFED-A74F359D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1FE40-3D03-4880-9BE7-EA69444D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9BB27-E9AD-447A-9B0B-57BB3E23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39590-3BBB-434A-9283-034ADADF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BDA2B-C345-40D4-A1C1-3E5E8EA0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3872B-F720-40EB-A27D-86D55BEA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6F802-C8F6-4A78-8A10-028DE3ED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13E2D-848F-4B47-8EC5-1557209B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9BC3E-EF78-492D-8DA8-DF0D378B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7C8-7316-4C7A-B195-DE414D45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58A69-7266-4BC5-B919-D85AFBE1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74779-63C7-4C39-83AF-8DC0C0C4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7D15F-ED35-4779-A6FF-9861CD70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79AA3-D84E-4E5E-B02C-E0EF0DF1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055F7-9020-416B-A15A-E651AFC0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54236-181F-482D-80FB-9FF64668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8E727-6C6C-4CC4-A0C3-3B25D90F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01890-94CD-4725-BC49-9015C7D1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F54D0-816B-4117-A255-28F6A878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A0E3B-3775-4174-91D3-D78CF461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BC7F-89E3-43FB-8B03-2E31703D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23D2D-7B5E-44E0-8074-4DC156A0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66A71-0802-4A3E-8467-EB0EFE15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189A4-B90E-415F-B84D-C9A09300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F5F28-D581-455F-A453-DC7F029B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86464-5CE6-47BB-9CA3-5E687003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DEC7F-C676-4338-87D6-C4DAC894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6B510-AB19-48F7-B0D6-892A808B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C955D-8060-4ECD-9F5C-8BD337C7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D2529-4C40-4749-801F-04876873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22E7F-10D4-49D7-BA63-6EA4DD63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B521-76C9-4A51-98A7-F35A2F74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D5D48-D289-4A26-83C1-6594CDFB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24AEE-33AD-401D-B19D-4A3A0C14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D9808-81AA-412B-B804-CB9887F9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4845B-93FF-4E5F-9D2F-6AF345EF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2B4BE-52ED-48D2-8BFB-9F8828AD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2AC55E-F5DA-4424-AE4B-E0176A64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49060-B8B1-4EFC-8898-554D3656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63778-E655-47B8-A25F-431FC7CF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01F608-8815-4711-8001-F3D83F0E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5A095-1BAE-483E-831A-8F21482C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1A4B-597E-4170-80A2-59BD893C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ED45D-CB16-4D8D-B85C-B84EA934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58C02-3D26-43EA-A14C-5D8F1499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23F3B5-8C84-40FF-A473-A18DB976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E8B62-4E1E-4119-98B9-6040EDA3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5E3D2-DE5B-4848-A9E4-E89A94AE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A1979-99E8-413C-A96C-00103175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C6ECE8-3A8D-4ECE-9F9F-63835561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555A5-1EA9-4231-9F92-08D660AF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911195-200E-492B-977E-AD3109DA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DA3BA0-DFCB-49D0-86A5-EB1DE72E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20E4-3FAC-46B7-A974-946D3E82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B96DC2-DDA1-4A88-BB5F-2080935C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CE693-B7AA-4E93-A3C3-15E268A9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280C48-E02E-4A98-9C03-61B854A3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EB03D-0211-4C97-A435-E9BB4FFC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6ADE10-ED02-4DB1-8C54-C7C7BC0C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82E4C-6E4B-4754-A647-68A926BD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235793-D3EF-486B-AC5E-737111C0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4AD8E6-F9A0-4492-9881-1966D5D3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A8450-4507-4B88-8FCD-5EE1FE1B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E3DF2A-E081-4C63-802C-AB801535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E1D6-9384-4BB3-9674-3A51B3B5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0B560E-0C01-4D8E-B935-81FA9C4C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68A424-181D-4A46-A8DD-922B917A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6CAB81-ABAB-4860-9490-1E3C4CA7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E96E1A-E03B-440C-A95E-E3B074A3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19892A-C192-4616-937E-535876ED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2C745-85DD-42FE-AC44-4B2285D2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908F69-993D-437A-AABA-874AAD19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1584E1-4217-4E30-AA33-435FBAD5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A1C164-D5E3-4E22-AA67-B934771A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FA5EA4-C2B0-4F2F-8054-A233020A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6BE7-9A72-4558-BF40-2B96C8B7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0B5122-70A5-45A7-99E8-CAA26CD6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7118E1-E004-44B6-B59B-20F5A391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AD1136-6765-439D-9C9F-9B5F1969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1AA603-324A-4E05-BFE1-9BE14509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7A07C3-BD81-4FCA-AFDF-CFD4647A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499CED-45BC-4679-AC9D-917761D3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E9E04E-EC9C-4462-BD09-D0AA1DBA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4B230D-E39B-4A21-BCD2-9417B15D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BF4E2D-0A6A-4552-AAD5-754A809A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0F28C3-8D07-45B1-85EC-8BA743C2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B05C-87F8-48EE-A44F-57ED472C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BB245E-2701-4919-8049-320A3AA5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E712E2-75E4-4523-8B07-9A978000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94FC64-489B-44AE-8F10-5D20A9BF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A42E8B-5CFF-4369-A7BB-EA82E840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1AB4DB-E73D-4D4E-B63B-A8F0256D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5B21BA-7805-46F4-BA20-EE5CADB6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C1C6F6-EC1A-4532-BAC1-C0FF3247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4B6329-A67A-4FF9-BB98-A252A88E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1073B7-27B3-40CE-B5BB-2085252D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CAE1B9-630E-437F-82F6-A63FCE1F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B1E-8912-4C3A-A29E-0180D5B5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D842-EFFE-4545-ACCB-25BB4E43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0EC61A-DD7D-4B04-866F-8DDEE9B3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31AAAA-FB66-4AF1-9A85-D01F53DB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17D867-5217-41CD-865B-21E730AC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E310E2-A447-4C47-95DE-FC0ED8C9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605EC1-C237-45EF-9A63-39AD55AB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32901B-9FD4-4934-A9CB-C68584F1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82CEAF-6F54-490B-8022-9E2812F2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1A6FE3-ECAF-4581-A1AC-8E8B2E58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E32DCD-C452-4E60-9507-B152FCC9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BA4AB8-893E-4DEB-8196-2C1EB71D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98E2-AC36-4915-940A-BDB50DD6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B5017C-A3EB-4965-91D1-E5449D67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6FB98A-7524-4B2E-A383-76F43763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276281-F0D3-4A95-A574-32D1A861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5058C0-ED89-4D27-BF12-00EE58D6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94627F-BCF7-42D7-867B-D4909E11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44DDA8-383D-4F30-A151-AFED8905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FAC53E-51FE-4CC3-9F28-9744621F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BD40BD-CE0B-481F-A0FB-17C096D8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9647B3-3E99-4566-ADE8-562AACBF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FC53FC-C941-4305-AFFF-A4C02828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A4E7-1171-403D-AB66-8DE171EA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DD4DFE-AEE4-43CE-A0BC-B3DB437E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8B5A21-9E8E-4DC8-A36D-E2D4403B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3A01A9-B825-4885-AEF2-39438A76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07B7A9-B085-482F-9E7F-ACEBE328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438B5D-7215-4170-9DBA-F4FAB55D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25A87E-451E-4D7B-ACE5-DF4F82BF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C14B37-204B-443B-9A84-80422163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38E7AF-0613-4268-AB07-BBF5A91D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1B2EDD-7226-420F-9DEF-DBA8741B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7E9F7C-C777-46A7-A4DC-D868A409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755D-CABE-489B-AB31-2759E785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A72ECA-EEB3-4C2D-88BE-577A4F40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983BC6-68CF-4AAC-B2FA-1C2B423B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920030-CA10-4FE5-B105-F7C87EFA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C0BC50-E2E4-42DC-97A0-228770F9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0F20C7-9BFD-4579-9EF2-F5966E54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5382F1-8471-4CC5-9E5B-17EEED87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BFAD54-DF0B-4019-A13F-B5EB1EA0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3E0888-B278-451D-BDF5-34A2F61B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E14613-06C4-4FB0-9151-09FA1098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91C3FD-245E-4F22-BF73-B84B6467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156D-2DD6-4E49-8387-DA426E19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D7D0C3-974D-4019-A914-3C2B241C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CB813E-00CE-43EE-90DB-3372A416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91AF0D-9627-4906-B989-6F1D7A91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532B44-743A-4236-9E8D-9A68075A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9F3F25-1FAA-4661-95AC-978CA8B0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859313-C7D2-42FA-8CB1-2BD862CE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405EDE-82B2-443D-B3AA-CFE9300F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2C2694-CA3D-4690-BA92-BCF49845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5D0E0E-4C67-424B-8E3B-BA42CB92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8E80AE-0E3B-4284-B09E-3AAA4F5B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2D49D-7526-4762-BFB9-C0E3B154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EDADDF-A1B3-41ED-9812-CE3C431F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672A21-E045-428D-A8D9-E0C2E066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95A5FE-314F-4DC3-87EE-3C5B44CC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651740-ECF8-4DD3-8FC9-26AAA592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C23BD2-65BF-40D7-A592-A0CBC593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452867-180F-43DC-9083-B064E9A8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09BB3D-D7C6-4E03-A3E0-F5AA0D64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45DB01-78FD-4186-AB5A-5F3F3CF8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C83F28-80CA-44FC-BE4D-C43F861F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E38A76-37C2-4224-A920-7974DBB4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08F31-5C83-494A-B64D-8B70D331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47FCF7-0288-46CF-9DBD-A6AB2512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6546B3-E433-43B9-831B-82D99E87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6D7F13-8293-4DCA-A740-C66E5D7B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21578E-2371-4DF4-9468-0830251B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A265C3-AB20-4A9A-8F86-66F9B960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F1FFB2-0442-4489-ADA0-0EB60A7F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FCC56E-0C8E-4CEE-9D17-45245D50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66A71C-6DDA-447F-81EC-1592F581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1BDCF1-D9DA-44C6-917F-B2381463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74B5A6-55F6-4256-BC5D-1FBB3405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13EB5-C9F8-4898-A17D-A850C475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518ED4-8B12-4927-AF63-B5618EEC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6667EC-1B82-4261-9466-A13A96D5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A29EB7-D30B-4A3B-8933-BF67449D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0645AF-1672-4535-9A46-0901A15E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BD08D4-BE18-49F2-8C0D-27999E11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62C393-C0E8-44A9-938C-47A2201A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215B9F-585D-46CB-A7EE-E6EB84CA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239CC9-7B7E-48AB-96DB-AC74B123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6EA465-7340-453D-8BDD-6D346A1A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359662-0E43-482C-A246-1F82FE3E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26A08-5EF0-421B-AF9C-B386976B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3570B7-2BC8-4C1A-B030-056761F0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59D7DE-607A-4CD8-8B84-82D2F789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823524-68E5-40A1-8A88-233165FC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5A3F65-BB40-4FA3-B6DC-4584615F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20B06B-A0E8-402B-8F87-BF6A3411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801EF9-6A18-4FA0-8F67-BD313CB5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DF7F71-0EA5-40D7-8B64-A3AA7E09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71029E-632C-48DC-B57C-64BB4A94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D11752-3A7B-4696-92B4-BD5CF457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CBD7C5-A29C-401D-871E-344C2285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C1726-FB5D-4591-BDB4-88BEC970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EF8B14-7C81-4D9E-A9E0-0D20EBA2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3E156E-836C-4E35-A0E9-D074E867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DAC7CE-B2FA-459D-9B6D-7185C730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96712F-353B-412A-BAEA-928D9F50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BF45C7-825D-4F6B-824C-5CDD0648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D02866-08F9-47E5-A4F6-83E93AD7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DEFF86-48A3-4EC3-B8C4-25BB9D64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D6A683-E8E4-444B-A609-F352E6F2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756A2B-3E8C-43E3-A2F7-384ED4F0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D814B1-0E22-429D-B47A-08A518D4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366-B292-4367-AA79-79DBA745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9680E-A994-48B3-9039-AA05D27C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7540F7-38F8-4877-866F-24C53347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890E65-DBA7-4705-8980-4EDC9C47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CEB14D-960D-4110-9926-C155BC16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892402-2457-4C02-8F64-D20B2ED2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1C05B8-D2D6-4626-945E-D1FB17E9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6A8812-E4A5-4BEA-9D87-2B692620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83AA46-3FA6-4AC2-80FD-E4069DAF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FB6CDD-D06F-40EC-826E-9E09F802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23C77D-3F85-4B2C-B591-3F5C6CEA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FDD710-9466-48E1-A36F-8858A99F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A2AB6-66D7-4D6E-9A88-0324CE82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84C003-8CAF-4885-AEAB-C0843395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A8AC07-ABA7-48BF-8E84-97D32918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034241-26A3-4F2C-AAB1-639960DA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98850B-3EA3-49C6-ACAB-79402F23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E0BE66-8552-4A92-A76B-B0FACD53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1C1D0C-13C6-4D7A-87E2-B69EB3F9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59E0E6-4CCB-4390-856B-10EBAB27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ACB180-2030-436A-B6A2-0CE8C452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9C9A0F-6F69-422E-A918-CB345E8F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D40545-CDBA-4672-866C-921B18B7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9953A-244E-4DE6-B091-3501F3D3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71C463-146A-4A0A-9915-2329194F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E9FC91-1ADF-49A3-9669-8B4C96C9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2E4B37-6328-4E87-B051-26AD855B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55C0C3-A6DA-4FE7-AAFF-2356B12E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DB11F2-5611-41B4-9703-2E1BFFAD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7A90E1-91D0-44EF-A690-21D7EEE6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CD8D1C-6AA8-4E33-9C18-B752A5AE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885DDC-9D52-4039-93F3-C86AA707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92F0B0-6556-4A84-B591-25B7052E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1FA86B-5B94-4D42-9482-0E827E0B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BBE83-E4B2-4015-B88B-51BE4951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027DFF-DF9F-46B4-8F1D-15EF9FE6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EB78E4-6A99-4A3E-BD52-B3E145E0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4C5D72-976F-4401-AB3C-3416F3F3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4C8530-C98F-43C0-9C52-D49C72D2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AE6FAC-B9A8-4F2F-B21F-4465DF1A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98875B-B07B-4EDE-B1AB-CFBB2B65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C7A087-C02B-4790-BA87-5CE32A26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A9D4DB-EAA9-416A-A70E-CA8B3048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D88F34-1004-480B-A449-829A8EF0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2A3311-C8B5-467A-A2A2-44D38E5B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11BED-B6AC-48AF-A57A-C96E26C1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DE3D8C-A4B5-4A5F-BC09-C95DA7AA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750C36-4980-43D5-94CB-9974C71F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E04B79-1508-48EE-96C6-AD81C3DC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9EBE99-5075-465F-BFDD-F81F26BA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4C5B33-3B09-4288-A4B1-B89BAC4F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1ED1EB-0157-418F-B77A-3DD4C2D3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291598-460B-4209-AA08-54191FFD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DC1EB2-2531-4E7C-BF44-D2138D3A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7B9B55-A678-4384-B823-7D07E672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0BC5A8-8D4D-4937-9FD4-B3026F84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46213-853C-4230-9288-71DC467D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75F9F4-1C45-4CDB-9640-5AB9450C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45114A-1361-4F0D-AA4C-F6ADA02D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689837-B578-4F5D-BFB0-FE10171C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E46255-A637-456B-9068-ACD28065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511B9E-E43E-481B-B2E5-2812F91E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C51032-8926-46A0-A1E7-A3CED4FE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0C148A-7EA3-4686-8D27-E50A9938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8AB9B5-D8A3-4049-9A8D-4E9CC4BB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11E3AC-4E98-4F89-84B7-7EC2C71C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4CC5ED-FA12-4661-A0D5-AD578360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2A796-C331-4F9F-AEA8-29A3C1C9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02BB56-0AFE-4151-92FB-BF8F504A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DB6439-9A19-4C9C-A736-5667779B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7A9D76-98B6-4520-9D73-FCB1B803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2CC349-5CDE-4DF9-970C-8D19E061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D8F256-8CA9-4808-AD4B-06F93F22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336187-5184-41E9-B542-62E3467E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C24D0D-9DF5-41B6-9FFC-48764DCB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EEF66F-5644-4510-BB74-8FFEFD5C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18978E-A8C4-4EC8-A0FC-5B59846F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1F3B7E-404F-41CF-BCA5-27E5C1EC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9F7B9-8F1C-4BEA-AD14-82DD6549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404497-30D6-4A7D-B0E9-21DD594D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6E7635-7A42-4AEE-AD71-C91F92F4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E97608-F116-48D9-93A8-D8F0599E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D2ADDED-BDF5-4A0B-94B5-54954009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28B770-0E1C-4AE0-8D6F-57DC96EC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6DD855-428A-48B3-A135-B96B2AFD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808E96-4742-45EF-B669-AA51495A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5C5E49E-54E7-4B17-8386-4B3283E5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843C9F-B68E-4E3A-93F5-260BFF89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03F21D-98AF-481A-B0D5-12FE0904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4672F-2AF6-4CCD-8A86-2DA80895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535416-7685-4792-A42D-B86B00CD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CDCC52B-9A15-4A69-8877-2A0F76E9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396B077-D98E-4345-ACB4-37D02886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4EC289-BCD3-438C-AF8A-0EEBF216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CE5CD2-0DB1-40DA-94A6-1803A0EA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91A4E9-E3DC-42AE-AD00-91DD6D8F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D3C54D-0FA2-48CA-BE00-0BA5FC90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1DA878-1484-4AAC-9ABE-F97B30B6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32E0819-F5D1-4636-9F07-0D2DF13B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67E87D-CF53-4EBF-9DB1-44865BDD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B0489-DB3A-454D-B55C-2C4028B9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A25CDE-7CF3-42D5-861A-538F5970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736D1F0-C7B9-4FB3-93A8-54A7D93E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0EFA92-4E42-49C5-945F-51E27995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364250-7148-4F60-A1CB-1D4F022D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26BC73-FAF7-4959-89BA-5CFC2EF7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D5D07A4-5B9A-4CE8-8DCA-19FC4701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791579-CF08-4A7B-902D-B786B5A5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4802F84-52C9-401A-82DB-F6812350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7F2A292-4DE4-4175-BC5C-AC209772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A9E8B90-5D69-42A9-8A47-7A92B3D7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EEC-248C-46C7-8EB8-D445C7AB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FD0B1-8871-49ED-9630-61481D61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895E5E-8EE3-4427-B370-63748CBB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C3A9FF-8C53-4D82-A4EE-CB0585D3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DDFCC4C-99D7-40DD-B41C-AEDD896A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AD60E47-2C8C-4246-B698-1F0B8A9A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B84C2F-BB3D-4B9D-92A2-61259AF6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CC85161-06B2-4357-991B-AF49A29F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4B0889-BB36-4FFF-9154-9744B154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EBE743-5152-4338-B3D7-E1E21C39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924FC6-B154-477E-9073-4018F69F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9607D65-1E06-427D-81FD-6AF059D7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95286-3E7E-47EC-840F-F76E758A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2C3D67-7DDB-4324-AD25-0FE019BA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0464526-9C51-4B55-80DB-72CA86A7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517B76-A0DF-4412-8161-95C82578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B81C439-9E86-4489-9DCF-468B2928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4947C9-F16B-4E44-8B64-001864E0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EBCC297-3270-4F70-847B-2615C8BB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785806F-B760-462F-9302-B4138968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A22ADA6-FBA6-40C9-8F37-767ED7F5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21B33E5-8143-4C09-BD0E-79693E66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CC028EF-DA7C-4025-B1D7-312C55A7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FFE01-284C-4F16-861D-E1B8A1C3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FB51F7D-0C37-4EC2-BA03-5B0DF54C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5D2C1AE-5AC9-418B-896F-C954A586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C70C47C-22BA-493E-BB3A-6826E08A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348FF00-9319-44DB-901B-0D0B8C43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1F157A-5CC2-480E-A7A7-3DD7E31D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0D16E9B-12D6-460F-AA58-45D88151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9955B1C-27CE-4687-BE3A-D70EC7DE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C31967-EDE6-426C-A2F4-1703E0D4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0A3345A-8437-47A8-847C-F4052DA3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A29F320-4F0F-4A0C-BC43-BB2AB80E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CB587-A441-4EB4-AE01-543D55B6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13BE32-8FC4-42E3-ACD8-30DA7A48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B1A4F6-9BDB-4EE6-91A0-49629E45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881904-8149-4EC4-9F9B-BBB6A373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5930430-336E-492B-93BD-716B8164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DD25114-F291-42ED-BE52-2A87B37A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058479C-6EE7-4AC4-8DB0-3E1377A9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DA86B97-D539-48DE-8EF7-8B836FCA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A2560E-99D7-4737-9E24-9D5C52A5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3B65274-50F5-49A4-B34D-17E9238A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3E888CF-1902-4092-A9B5-B63722C9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0CA7E-202D-4337-B051-B572768B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89950E4-397C-4776-A539-036C60F2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B3FFFDE-8A64-4610-A50F-D802FC6E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01F67FB-199D-4137-A297-80D9997A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24DB0B6-A6DA-4741-813E-5D40CFF7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0A9791C-DBFA-48A2-90AC-2960F306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0138D4B-7B0A-4D6B-B325-8FB27B16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04D749C-913B-4C1B-BDDF-C6F610D1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9A4AD18-FA4A-418B-9635-209BA85E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E8D99C4-89E0-4C4F-AE45-F2E1759C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8C19FCF-D201-4211-AC68-7431CFB7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A029D-7CC4-4232-AE01-5C68AE01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BF03C28-FC9A-47DD-A655-103AA9BE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DD2175F-2866-41D4-9425-A77FB266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EC0F4B3-2282-47CD-9038-93F33424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B0CE379-80AA-466E-9ECB-13853A85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355C6B2-DE2F-43BC-9FB8-31ADB970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E27531F-3E30-47AD-A29B-63C8852F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80CB4B2-155D-4382-ACC0-1A066F32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7DDB07B-6058-4DCE-9106-58BACBE1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7B45E6F-CDEF-4AC2-8995-4EA307AC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876E1BD-EC70-4210-B5BD-9C77A244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B871A-3CF5-4745-813D-B3876CA3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BDD6103-7DC6-427A-AF28-01357A4F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93DC97E-3244-432B-BBA0-4C28BFA4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14C7252-2903-4517-AE64-80EAEE19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4BA40CF-4692-4609-83BA-642484F2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AFA9420-838A-4529-B0F1-B24045CA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DC836DB-BE92-437A-84DD-427EFD11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8E3A508-0AF0-43D3-9D82-351560FA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BB3BD6E-B7A5-45D8-95B9-B5C56824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2E86AC5-A977-4CFB-9560-99EC8BE1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3C6EB1E-4BFE-41C8-8C35-88014173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8C21B-DDBD-422D-A1B3-D5416EF4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1818F88-AF41-47F0-A0A4-5CB5BE49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9A9B089-5FD9-4CFF-8BC8-A9375E22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24272E9-98E0-465E-BFDD-EBB47C2E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A57709D-7FB7-4CE2-8263-F2280DEF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3870837-6DC6-451F-9528-9C9E7F3A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8B1A0B8-CAA9-4928-B219-FFCAC991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31050A3-B35E-42CD-8233-A9F64734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A9CBFEE-A5F4-4AAE-8CC2-BCB063B9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FB0F74B-727E-4AD1-A5BE-314BAA90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7F45F00-00AB-4E41-BA84-D512882A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CFDAE-939E-4701-A22F-D292F023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3B0926D-C49D-41DC-BD9B-201F6B5D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46CC229-FB55-4A22-8F70-7AE962DE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BD15B0A-9019-49CD-A649-55AFE95E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CE85D2A-1AF3-48D9-A5D0-F34296FD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9082736-24C5-487B-A82A-9D9B96F9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D80758C-5F96-47AE-8055-F6974D7A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E5F20BA-F595-4B7B-B96B-672F7F9D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7EF0326-BF21-44DF-8A1E-0FC8EF45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0806CBA-B73D-49D9-B0DF-417E331F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566B611-6B94-45E0-9D4E-6A060097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14A97-98F5-455A-9ABE-CD2864FC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8F2E4E5-832D-4029-9078-4F72C3A0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0423C76-1914-4BF1-8675-9A93707C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FBB9056-057B-49B0-BB13-11A6220C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3CAB653-4F42-4411-B6D7-438150B9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8A21D6B-7023-4716-A918-18C1E4EB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BBD017E-D4E9-4725-99F9-2DFD2E7E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C670DFD-4302-42CD-877F-2A044A14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E54D4F0-5441-43DC-8300-ED5645E2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5824547-E3A1-4123-889B-8FB8BB86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AE40E2D-184D-4391-BD05-EAE6CE7E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4C09-1040-420D-A4D0-59324A42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5959D-8F60-42BA-BA97-FC2AA169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AF52DCF-7369-480C-A097-0874F445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18787EF-4519-49B0-80EB-0A6F9FBE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8B98965-C1A8-4B2E-813D-D54FC972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226AD35-2549-489A-A85B-96BF7166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0057AD6-AAFC-46EC-BD94-83C5A81E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47AF603-81E9-42AB-841E-4967DC18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F784BC3-948D-46A3-9C8C-706A961E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8944F26-735F-46EB-9203-B4D614DD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6CE0ACA-4FFD-4D05-B32E-8553B7E0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2EEF397-ED07-486A-A1E3-CD86C0F1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F2596-EBAF-4799-84F5-0A09BA6A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F97C585-A673-4D39-A61E-C3088895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ADDE76A-E1D6-492B-BA98-D23C01BE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894F649-05A7-425D-BE6B-E19C111B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9439094-A354-42FB-B2B0-C277A991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E6F4752-9A79-4A06-A59A-53874D70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BE0E8CC-5F1F-42CA-A3A7-3CC06D95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F434E61-6978-4B07-A8D0-74EDA5C9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3847E4F-F888-4621-8730-9D013CB5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BD54A44-7BE4-41B7-81B7-3D8EBA6D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47D7267-E1E7-46BE-BD91-37B3E1EB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7A1AE-B8BD-44D2-B545-82735158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274F2E9-F5D8-4B3F-B883-CC2B5EC7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683095E-7DE4-4CCB-A5C3-EFBF15F3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A464DA9-7A72-4E04-AD67-754579A7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A80307F-9EB0-4A34-897A-32946597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A754FEE-6637-4011-9DE4-065DA0EE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9382AD0-AE85-4CAC-B0C0-377B8CA5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10A9B06-F144-4FA1-848F-FC5DA062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33D27A7-B2E7-4E80-9F01-8287DBFF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F2E5011-CDDC-456D-9C84-9FED1EFA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393D22C-2609-4724-BC6B-7F140FD3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42BBC-EE40-4C83-8053-51F3AF3C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18A6CB4-DDED-40F6-920F-FCA5C683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0BB99A2-8457-4A01-8826-CC52CAD2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D5E6315-EF5E-44A9-AC56-E6574EC5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1085667-4B91-4166-BF61-B8A21F65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3F3EFA4-836A-4C9F-87FE-7D9B3A21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13D557F-F1F8-4D25-8D30-D96F9A52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B8D349D-B834-4357-83AE-18170320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F6ADDE0-5B17-4D9C-AA3A-8891E328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F088089-8C68-47EE-B434-F1FDBE04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A371461-A057-46E1-9409-89B8A3FA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E33F9-FDAA-4FDD-B4A3-E7936817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51A8F8C-0AAC-43C8-9096-9D2E794B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B5633CE-E72D-4591-B570-7DFDC42D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ADE3075-1275-4483-9B6C-EE600F04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14FE04E-8AD1-4AFB-8287-54CBFAD9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5DC9B08-28AD-4F11-B29B-9BBA6300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0089143-9F94-441A-828D-AEF7B835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18E0A43-3BE5-4883-895A-C6441F3A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07D39F9-B3CB-4BF2-9E73-788B13CD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4F478CF-A8EA-4F33-A14D-BA51D7E6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D0951B9-9090-4D4C-8647-002C0BC6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F8D1E-0CCC-447B-B66F-98A53581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E7BBD6A-B947-41BB-A676-B035F3BA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7437745-D8E9-4BDC-992C-C7C3A670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C1743A1-F169-4718-AB1F-E0529D72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4C3B2E6-155D-4753-ACAE-A3E64E6B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14387A9-D6E7-4B39-8839-DA0B2C31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FB81E6A-39E0-4083-9DA1-10DDD2B2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DFB5459-AD5C-4172-8D70-5F1BA43B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370BBAE-CA84-4CD1-B2D2-D80BC4F6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ADC4460-99D0-4BA0-BE8B-4F2C641B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98BACA7-8572-47B2-9D0B-3D4C706B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9AB64-A231-49FE-91E3-9A7E29AE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4D35121-2F29-4DCB-8A49-6D63A0AA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2EFA623-ADFA-4309-89E3-47EBB322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75D13ED-9FAE-4DA5-A361-FF29C083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C2617D6-B238-41CE-9627-484F6ECE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918BBB8-07C5-4B82-A41A-C1EA29FB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AAC2743-2EA2-406B-B0D1-65F50A49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13C710C-E80A-4D7F-89B0-34E4CFE5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2158D50-0F19-45B8-9AC7-95DC4C06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0533E51-21A2-4DB6-B9B7-4A7218A2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16C5825-B652-45C1-97F0-682012EB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92366-0693-4003-8CBA-F39EE940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01F8804-D9C7-4DDB-8C1E-564DB86D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A2E3D99-161A-4B2D-8A08-A14C584B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50DB70A-A8FC-4AA0-9A80-AB98AAEF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59C1AED-4ABD-4F5B-8ADE-93B23942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DBA3011-7E2D-4073-BB4A-2F0E84B2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6AE4FAB-4C43-4206-B8C0-78D7B46B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B3C8C30-0479-422D-8B98-DF06794A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3611AA2-BC70-4E35-B319-D324DD7E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E11644F-1982-4948-818A-7797D987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89A0139-391B-4F8F-B15D-9E008F4B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1145F-DD09-41E8-96D9-FCB5AB8E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EE662AB-781F-46C3-A54B-18520A44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67EFFC2-85DB-4B41-9EC3-99AC4046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66F0338-B771-4A9E-8152-E02BE2FB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3708A50-05C1-4601-AD8B-2297C8FF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B8B73BB-D911-4B1F-BCA0-3398EDB4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4E53ACF-BE5D-43F1-BA68-1D1CECAE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2F8801B-986D-4CE8-87FE-C2AE6149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0CAE936-92AA-4EF3-9A4D-24C50107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39DAA4C-64E3-4DCF-95DC-E469AC14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202D10E-D847-44B9-8B31-30FF3965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B73E6-3972-41EC-A592-D876ABEF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06FB7C8-B5D7-4203-9C0B-C58D1AA1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861AF87-CBAA-43EA-9500-8AAEE0DE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3013B83-6B99-49DE-A741-B811A38D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21B2A90-3F09-4D4F-B08B-EAE279C0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A834D08-71F0-4923-9EE0-587215B7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E576194-E4C7-4A9D-9DEC-101EEBA9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D89EC45-7788-4DBB-95DC-5394F5A7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CB48E41-0849-4B82-8395-7AFA098A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D1CC69B-BC85-46BD-A24C-DA0F136E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631C2DF-7C47-4985-872A-F8D3D83A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153-B606-4543-93A2-43EC7C80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9B9B4-62D1-4AC2-BF28-366C645D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8514970-1990-4894-BF2A-710B2C97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8B403EB-2471-4A25-B58D-0F22EEE7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9998DF6-2B19-45B8-9EA1-C114AF3A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BCBFC28-1277-4ECC-9D16-7CEFC169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81CED37-9D93-482A-853C-41CAD617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E03C526-1621-42C1-9AD6-9378B428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E3D2D45-4CFD-459D-940C-2E5BE610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4DEF25B-9F39-411B-938B-3F3ABEFB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4E55B3A-E030-472A-996C-C25B5342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45CA36B-9248-477C-B0C0-D3D9CDF0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CA6DB-7A63-498A-A0EF-7DE2AE32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D0E5526-CA56-4B5C-9618-5EB3038F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474EC5E-D6CA-455B-B375-C2DFBE7B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5042B25-2989-435A-A0B5-30425366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A25FA79-E933-4542-9B82-2BB41966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C0D71E5-CBD6-4CF8-98FE-6F5BEABA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A2CF6CA-68BF-4426-8192-500A7481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0FAE699-631F-4213-8757-2F9C0925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FF01914-CF76-4A08-A34A-6F509E1C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C551004-D5E8-4CFD-9532-DB8178D8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4F2C620-4583-419E-A790-E64F6036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A5D4F-9C0A-4CF6-9850-615CBB70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7D24E0D-0B9A-4BD8-87EC-B5D353D3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7E1FEAC-964A-46B3-8F53-CF96B242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FB29E35-372A-4CC9-89AD-DC0D4E9D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223CE53-9C95-4A98-B3B3-E131959E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C9E6D39-676C-487A-835A-86C28741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E67C3CA-1CC9-4366-9D7A-8CBFB5C0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B7BD773-AFE2-4B30-9330-C3B4C7CC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E520765-9BD0-43B1-88C3-A43A47CA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032B491-A648-449D-AD62-89562F56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0DE3204-CCD3-427C-8F94-1861A12F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83F8B-40CF-44FA-9B59-3F5BB924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EC1E1D2-C6FB-48BA-8143-B00B68AD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F415522-C769-47D0-913A-2DA1F869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48FB9EF-9342-431E-AC2C-968AFBDC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88E8B61-D4BA-47AE-BF6D-55536C4D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5A3FC48-C4FF-4C07-9466-5F1B6A1C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AC46BEE-9BB3-4420-A266-8E98BC77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2FCC75A-3D30-48DD-AB0D-F906174F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54D08FF-244B-4BF1-9280-D1AFFCD1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AF54D5D-7CD9-43A7-B1F8-01EE2F49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0356667-F8B0-4602-8866-46F17B39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EF44B-63E1-443A-A863-474A2561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94EBCE5-F998-49B5-9638-0DF27775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D464A3B-4244-4BD8-82BE-F005EA5E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B5276D5-702F-46D1-B240-70FA0440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686AED8-D340-4E9A-AA7C-ACE7781C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B4A562D-8BEF-4B0B-B3B9-3A6A1BD8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5CBC507-3057-4DD8-887B-A40E9A3B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E695B55-CAA4-496D-9629-08926A16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17D4F2C-6CAE-49B3-99C9-8D337BF6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C64FE7E-E838-4A98-8F4F-956039B9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583DB52-0F6A-408F-8728-10D2DEE2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D7DA9-3DCC-4311-8700-D7BFFD65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4182BB0-5615-4D15-A1FD-7A75E4D5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4C53079-F486-4465-AB2F-6D5FD475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519792B-80CA-40E9-9CCB-A77B85D0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B6DDAB1-1CE1-42C8-A4AA-3A763DE1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6EE3E92-A19E-440D-B259-F8986382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3FDD61D-71BC-4A3F-9E58-FDB3AACC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C9B6CCF-E86E-4C7F-B088-A81BAFA8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F020D6C-2747-415D-821E-EF56C0C8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0EC3DC8-C195-445F-8BE8-05A6B3E8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4F2B08B-BE3C-447A-A3A9-BCF5F14A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0BED7-E97D-4EE1-AC2D-C55FCB2E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076F9DF-9ED8-4709-B73B-C2D18183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7C7BEF1-D90C-4ABA-8CA0-01397156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6292091-60FF-4BDF-AB3A-66A85AB3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B1B32ED-B4EE-4C10-AE7D-27354052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7C4448B-6EA2-4CCD-B964-5148C2FC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CD0A387-6109-47A7-864D-BE62F2E8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813A2AD-2460-43EE-ACA7-2CB9A508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9D41D45-3F04-4269-ABCF-4A865425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40A3DBB-39FC-4FF5-8A76-198EF8AA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4FAB571-C443-466D-A320-1AFAFD5B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5E378-03E7-4045-B616-CCFB148D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4887319-B12A-4F18-818A-E6C170E6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81D3A05-48C0-4681-ADC3-7FB4CC19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FB9DF2A-DFFD-4B42-B813-D1F0E3D2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48AFA40-CCFE-41D1-AD76-53C16E76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F79A4FB-9E65-4E84-B7DE-F46102A5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227E752-7139-46B8-806C-9EB0197A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8E314EC-8DC7-4A0F-89A0-54D57CDA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A502E5D-AE5F-4A9A-B28A-DEC33176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2B3A34E-249F-4A15-BD53-DB573AF3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6CBEBE1-E5C9-490C-847C-96D46F6E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2FB32-CEF8-4CA7-A571-D6DED428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0861604-C4A8-4827-9E53-05442C36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B4D5481-B0CD-463A-8947-63420CB5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AD68AE6-8F9E-4459-B730-22323303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414DEA1-566C-4390-B9E7-1748A60C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608DFCC-DCAC-4CB7-AEDD-BE695212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962BDB6-8D20-4B1E-91FA-AAE570A3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0D5B59A-6E9A-4A51-90D8-FDAD44C1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9275804-537F-45CB-8047-84E7D86D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AEC5499-3AA1-47D9-BCAC-98A06A52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E8985F7-D65B-44CE-AAE4-C10523D0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02B7A-E880-41C1-9337-BE81E5A2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F0D3395-1155-4980-8E80-8EE19FF9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D245B3D-E18C-4A28-A41C-8AC6D708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FEE3D51-041D-4000-99AF-198F815B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99C3048-32AD-4C3D-8A16-044A85B2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BF8C1BE-7C13-4F43-B800-A8F07697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C0613C0-019B-4B48-A80F-883A55EE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305B401-A9E8-407A-B2C7-E712E395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066C767-CBB7-4D1D-AD71-60C1AAAD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4F9C8DB-3BB4-47FC-993A-E74486D5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D65358F-FF65-4188-B267-BF72E89F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DAB-9E3F-4CC1-ABEE-FF31C155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4BD5F-6AC6-4371-999B-3F2B78C8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6958E13-B5B4-41E9-ACE7-4F2BB906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605C9B3-7D7C-4ECC-8EBB-8EE46960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952030E-A508-4019-B97D-5C03F89A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88380B3-1018-4ECF-A976-014E899E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E744BC7-48BB-4EF3-85EE-8E0A636E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80C53F5-9AD0-4EE6-9C36-8D216906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3DA09B0-CC8D-49F5-9D93-CDCDB162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FD36078-E7C4-4098-889D-653B3CB4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BFD429B-BB94-43E7-9CBD-C70AEEC0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8BD9B58-8887-43BB-83CB-56C1EB5F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64657-4F03-4D53-9FB5-FEA25B08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98D8CF3-C37D-4E38-A561-A1AD2CF5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5C3D226-EFE2-4E70-A958-EAB59D78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3E8BCA2-CDA6-4900-8243-849D4746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14E5DB4-ECF4-458D-8382-50875E9A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8D5C473-6F39-4E02-9CB6-688282FF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4548399-D05F-4F41-8C0C-0E7CD6DE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1E7AB18-FAED-46CB-B51C-9FF8E45C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50D6D05-7B05-4970-B6FE-E1BD5D9F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874473C-699C-478C-B46B-F2424FBD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B9F92E0-A986-4A14-857C-EC0D6650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FB4DC-AF7A-4130-9B41-715FE4F3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13DEB66-706D-4AE7-85BC-6E164344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6237FE2-F887-4B6F-A93A-B5C7AF2E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B80312B-D193-4B0A-9571-E9091CD5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3A35527-CF4E-4C55-8DE8-CBECF021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D38197E-31BC-4B96-9547-65BACCD6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7516B88-BC4A-4D50-A114-D6BD8030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9226E5B-2ABD-464A-B3C7-40F81BA3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877F891-8BFD-466E-B210-5133C374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840D8E8-6A63-4144-B10D-8AA478A0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2B534F8-1960-4FEC-8A26-989870D9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F77CC-E8D1-4ECA-9270-87D4DED7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DBF4712-7350-41A1-A500-067AA741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BDEB9C4-D2B4-4C5B-B164-18188973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9859912-E12D-4E52-A7BF-553C0966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FE4A9D1-0067-44DB-9430-EC978777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F80D6C4-450E-42B9-8C45-4A26525B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039239B-6859-4863-8080-8D9E77C6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95308D8-2AF5-44C5-BA66-EEFF9CE9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1F13650-8B1C-4C82-A740-C634543E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AA714BB-84B8-4A20-BC9E-6A93F4CB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488F704-B293-4883-B3AF-6AA8BB83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12A08-1122-4CD3-8A7A-4A8D55BA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89C2AC5-81DA-4F4E-8FF4-31EF15FB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DE9A9C2-FB20-4422-ACE1-B1CFF384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FBD8939-81F6-426B-8B3D-9282BA0E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A6D681B-AC99-4C33-8E80-F35EF4D1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08F7B9A-D2F3-417D-A1B6-AE5B0B0D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8B98C6F-03FD-4E07-9B49-177F3B26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A2F9B8F-6DEF-47E0-BDCD-7A4B6169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08135EB-1B77-4E9D-9AE3-8DDB94B7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F4F4C70-358E-4F4B-9D65-EDDF53C9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F81118F-83D4-4E57-9813-044F12A5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1A165-BD0C-4DEC-A5BF-CB905D7A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9F429A1-FE7E-4C8E-BD73-FE46B696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5A16FF6-3720-43F4-8F7C-FCF4F13E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3DE58B8-6F80-4E9B-94C8-2DCAA2C1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7A200DE-A77B-4040-9471-771F6997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FD6B4C9-FE08-4527-BBF8-BFED8C28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0D73443-5996-49AA-A053-E396E133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7F59D6E-3612-45AB-AE3A-7610CA99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B30495D-4F00-4CD6-BA78-B1695C95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5E43C93-B3B1-4B9E-9FCB-E980B0CE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FB19D31-234F-45C0-ABDD-9A7D02F0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B9B83-80D2-4FAF-B871-EC6222B7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377C666-A048-4D57-B023-8A3B5F37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84CD14C-E2FB-49A7-A09E-B1983748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CDA4654-1C1C-460C-8532-6FFCF679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6352028-06FC-4AF3-83E5-1C2192B0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0FC446F-CFCA-4B27-89B3-E6901255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AA2F12D-2803-4FFB-AA72-B7C4E47A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F7E9327-3836-4696-A11C-B5B609DB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3997E44-9865-4C38-BF14-E754CDF6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291C498-E5FA-49BF-8686-36DBEBF2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FF3444E-719C-4439-8744-AF7FDE7A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DDB25-B96E-4F91-98FC-8A72573D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FC55BF3-046B-4839-8257-C7705996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1C51386-F697-4651-B9E4-6619A5BC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7D3BB3D-C896-41BF-8B7A-F5F5B297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0E74CB2-055C-4203-9CFE-B3E6A635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189A3F4-DA67-4915-A70C-B556DAC5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3CC5ECF-5FB1-4C35-95DC-7F2C1318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9AD3509-B10C-4D64-984D-6976DA1D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9A4E3BB-3C78-429D-85D2-24CCF355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383C3D5-7CDD-4947-BAB1-7DA745EC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B29DC5C-45BD-4CB3-87CD-B690994C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912DD-444E-4BC2-90C1-B5A2FF0E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F40B440-5617-4441-8C42-5C618782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338E02B-1CB8-450D-A38E-DEE35815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20F76D9-FBA5-4089-85C9-D435DBA8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8BF3DF4-752D-4C29-BFE1-D3D82900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7A07266-09A5-4897-8EC0-58CC8042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53C78E1-9BBD-4EDB-85ED-6C067AF2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2E9A887-8289-4B97-A4A5-329E6E65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9E79F52-4A35-4F20-8722-E56D4EBD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8F1B51B-D13F-41CC-A382-5E838B79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7B63131-5ADB-47E8-9B90-4A11C369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55EFF-E448-436E-BA82-79491DB3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844A01D-8305-4A01-BE2A-D3560AFB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545417F-7CF4-4AE3-AFE7-657153F5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1B543EA-8A6E-4F4B-B434-3B6B3E95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7A94876-6751-40E4-A37C-047241D4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59C97E6-2870-4FD9-B2CC-723AABAD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9EB6982-C771-412D-B02C-55B6C56A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31C9935-E2CA-4AAE-9949-F42D674F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152F627-6556-4CE7-B364-F7B3E26B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84897C1-9014-4F58-88A3-C0AE8CFF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69C912B-2766-424B-9068-A411AB0C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0AD-377D-4288-8589-7BBAF871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6D81F-C08C-4D5E-B82D-53AFB232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71A298E-40C7-4E79-92E3-B7256242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6BA0E49-B7CD-4CAB-B084-95940FE2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925F895-065F-4FCD-BB94-64F25471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1255065-3D6A-4DB5-B7DA-6FEA93D8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ACA473A-A602-4D73-B34D-303FE4BA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991ED88-3805-4BCF-A17B-ADA886A7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A8D8C6C-A85A-422C-81DE-8AB4E3F7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B85189B-B046-41AC-8D74-5E0A1FE9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D315CBE-8AD9-4EFB-A714-76185193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B83EFE5-EEAC-4D0B-BD05-F2A52552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93393-E8BA-48F9-8D5E-211AAE66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CB9806C-FBE9-4709-857C-101DFE01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0045C35-53D7-4E20-8828-64DCCAF8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D43B045-1D36-40BA-B554-78917D14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1935ABC-4F92-4040-9B0C-10CC6760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422AC49-16FC-4E0A-8711-DFD002EF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9C086CA-17B0-438C-8CA0-54B7B1A1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B664E8E-49DB-4E10-AB07-A28BB2FD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A12E04E-F262-49C4-9809-61877CA3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D004E65-B851-4310-B757-E848DE2B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6E1DC0C-77DD-427C-B063-46092A5F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35BA0-394A-4D52-A558-5BBAC437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1EA5479-A3D1-480E-974C-5156A844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F424EBF-2D9F-493F-A181-783062E4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58AAC03-8E7E-4F7F-856A-249A995A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6D17E2F-ECF4-4205-B98B-8EAEF7BC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2930E4C-7247-43B5-AE0A-BC56533A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CA5A0E7-B6D3-4433-84EE-FF4C3539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71AA120-23A4-44E3-8843-F42EF803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624CC60-509D-4EBE-949B-4687C9A8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5DBD73D-ECBC-4AC1-AE66-353DD280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27A5BFD-0526-49A9-BCAE-02657980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532BF-DE76-45FC-A611-9DCA562B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9569618-458D-4449-98B4-B59A4F33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AF5F6B3-7557-48DC-96ED-98433DDB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9658787-DF1A-4C2B-ABE9-235F5A7D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8335891-9319-4B24-917F-E05073DA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F5FD567-7158-4DF7-9464-3A0814F3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5372D3D-72C8-4020-B04E-E8520CF7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3F48AC5-D51F-4BF6-96C3-C9724027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0B3D19B-522C-412B-AF63-D413AD26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54E5CC2-24B0-4151-84E1-2153C08A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4D593EF-DE85-4077-846C-DCFB4D0B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FE3BB-FFF1-443F-892B-9D657142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B071E30-8EFD-435F-8F76-5E947A96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FB0508E-BD6B-4C97-A4B4-7436EDAB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37DBFAD-D116-437A-A24F-9C39BBE9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1B5ACBF-4389-482E-ABC4-35D52F39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392F843-70B3-4E91-8229-56B057A6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FFF20C7-2D01-4E61-BEDC-0817C07B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68DB524-F0F2-45C8-9864-619BBC06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5D5A287-91A8-4A9D-BA8C-827DD748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DF059FF-363E-4771-83FC-229C3856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804DEB1-4D50-4689-A5AE-4BEE47A5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46311-64B3-4D2B-8A96-8C6FE1DB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6470C02-3001-448B-AEF7-ECA9C83E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CA08D59-703B-46AB-9735-41AE1CF4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4971A78-1B85-45F8-A7F4-E904ADB0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1B44192-8D88-4559-8289-21872593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13E24BE-3B9D-49DF-A51F-7FB8C28F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5E5EC32-2F55-4D9B-BA40-D70656EC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4A97888-0837-49A1-9318-7A33D075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AE9348C-9591-479B-B880-63875D7D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E149317-BD14-4200-8EEE-1377551E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2E8E6FE-BC9B-41CC-B7CD-4FD44666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46374-22EE-4A95-A2DE-520E3ACF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E09F319-5DB8-4CF7-8982-007A3062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12500C8-28FD-4381-9575-53F7E805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CCB98A5-FF8E-4176-B56D-8A18F623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529F0A3-31BD-4A43-BB19-848AB508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54FD009-8A28-47B8-9547-6FA74EB5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E71CC-E3AF-4773-8B5D-5A61A502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07CDE-8704-47FA-B76C-8A588B6C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A3EA1-D0F4-4F3A-BA88-75718B3F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403-B583-40E8-8CF1-3033C68D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9E72C-1E81-4D64-912F-98DFE9DA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9118D-BE3B-4015-89F5-93C70F02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DFE34-C5A8-4B60-8BA8-B8704C3F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36E40-AEEE-4942-9153-C287CB52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1901D-D753-487E-8015-67A49EB2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0DAF3-5C39-471C-ACF4-5F8231E6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CDECD-5E5D-4003-98AE-6A5B9614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61200-567B-4A32-BB9C-B5853648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59F6E-9010-49E6-BCBF-52693C92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A927B-D6EC-4B28-ACD8-6067A8B4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53BF-9635-4C9B-A83C-5C44C6C21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61A2-9596-45FD-A31D-4E934FB81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EBE0-E4DD-4558-94D8-6D14AB080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BE65-2882-4927-96F2-9A7F53658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A214-7E2B-4919-B8B9-B0C522EA4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1457-6B7B-447B-82B0-F58D6D33B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8B3A-B55A-46FF-9F42-E5AC82A41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8F6B-9929-4816-B247-385E5BA42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6719-D6C4-40A0-B2B5-26103266E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B1BE-64BD-429D-8022-F3FFC5BC3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6198-87A7-4DC9-B5B5-CCA0AA3BA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68A0-5BAB-4B3D-AD95-2B4C2EF1E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4D1B-E8D3-4EB7-B8D8-D32E99606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1357-E4D9-46D8-9BA8-0270D3727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66DA-A3D0-485E-AFCB-DE29F3549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7D83-5484-4E5D-AEC0-32D792DF2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308C-60D6-4C32-B396-E50EA04FA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9D89-BC05-48E9-9E0E-7406D8DE5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D340-9EE2-4925-87CD-2C2221E9C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E397-3EA5-4D9A-8C48-1849C29B4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20D9-25E9-4314-9CB2-05AFA37F8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3543-05D1-41DA-85AD-9AD13AF10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D1D9-6D75-46E5-8C54-AB8CB5B46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1124-C0D1-45AB-A2F6-832B3EF68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9A5A-3340-430E-8155-4B673A86C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B87B-6FD3-4DD8-835D-EDB34EFD0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1B23-2157-4FBB-84C6-4C9D6E474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6521-C1F2-49EA-8ADC-D7FE18E40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B49C-3706-4F5C-8B42-13D4A5C55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2DF4-779A-4D15-8989-5BE38B46B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BD10-ACF9-476E-BCA9-DAB2B7E63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B309-B378-4C68-8C45-36E4005EC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9971-ACEA-440D-8EA1-DFD3BC23C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7AC6-AB7E-4A42-8298-E749A4B72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6B1E-12AE-4BA2-8D39-BC910A5DC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3C2D-2C13-4E4D-A97F-D8557FFA7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C83D-2B0E-4A0F-876C-DBD098E8E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3811-9EC0-4FC0-A31A-0ADDABE44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70BA-6BFD-46AD-8FE6-9AD8D61D4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A45D-8FB5-488D-8526-C0BE7811B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FD2E-34FF-44FE-8BB3-4B215932C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E16D-F5D9-4CC8-9121-F7AB4C0C6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FE5D-0BE8-4E64-9941-4C5A8B3F2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DE8E-013D-4626-9E2D-A15CFD08F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1C50-3528-4440-B722-7A2050C1C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685E-DA29-407E-8531-B102168D2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33F0-2A15-4A76-AB99-1E81C7373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FE77-3700-4D41-A908-F7F3FD6D6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2D42-B368-4DC4-BCD1-D22FCFCA7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F51F-1590-45B9-8E4D-41663D5CD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B83E-BAA1-4B4E-9077-1D33CBEE2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77E3-B4D3-4958-9DC7-A46AA7EBE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F1B4-750F-4F22-8C02-652C9CFF9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DAF5-672C-4998-855F-33D38F3D0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9028-8415-4D22-844E-F22FE2B14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349D-A37D-409E-8640-F69B345B1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CA0E-8A1B-4B5C-ACA8-7C63FF870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617E-F441-45BD-AFA1-17B8BDAA8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5717-7ABA-4031-BD58-4307F5533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9F2F-7225-4796-8EEF-E4E51A04B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9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9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0C31-C259-4432-A4E0-5B0FC6BE3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 type="dt" idx="19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 type="ftr" idx="19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 type="sldNum" idx="19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C8F1-C0A0-4FB1-8C49-9A1493709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dt" idx="19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 type="ftr" idx="19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 type="sldNum" idx="19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ACA0-254E-4C91-AB0C-E6E27EF90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9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20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20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C5E3-B80C-4D79-8E04-6DB8BA023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dt" idx="20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ftr" idx="20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 type="sldNum" idx="20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D87A-CA72-4E12-8E01-9D6563111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 type="dt" idx="20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 type="ftr" idx="2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 type="sldNum" idx="20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1966-7032-410E-8423-743230ED0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A435-82A4-4405-8ABD-DD7D6C289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 type="dt" idx="20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 type="ftr" idx="2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 type="sldNum" idx="2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5079-97A3-40A0-AF3B-255493593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 type="dt" idx="2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 type="ftr" idx="2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 type="sldNum" idx="2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D6C4-AB3F-4C39-A55E-CAFD69F93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 type="dt" idx="2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 type="ftr" idx="2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 type="sldNum" idx="2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54F7-CD25-4064-8B39-5EA78C121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0800-5BDC-4613-A38A-D7A905806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CEBE-219F-45C7-88A4-CE3D72419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0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0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6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o2.wordpress.com/?id=725X1342&amp;site=kevinmeers.wordpress.com&amp;url=http%3A%2F%2Fblog2.tshirt-doctor.com%2Fimages%2Fanarchy-cartoon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"/>
          <p:cNvSpPr txBox="1"/>
          <p:nvPr/>
        </p:nvSpPr>
        <p:spPr>
          <a:xfrm>
            <a:off x="15228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ll of Rights was the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Times New Roman"/>
              </a:rPr>
              <a:t>first t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amendment process outlined in Article 5 of the Constit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ticles lays out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Times New Roman"/>
              </a:rPr>
              <a:t>two w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mend a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both houses, or Conventions in 2/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states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Times New Roman"/>
              </a:rPr>
              <a:t>prop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amend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/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of state legislatures or special conventions in each state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Times New Roman"/>
              </a:rPr>
              <a:t>ratif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amend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of 12 proposed amendments were ratified 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cember 15, 179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"/>
          <p:cNvSpPr txBox="1"/>
          <p:nvPr/>
        </p:nvSpPr>
        <p:spPr>
          <a:xfrm>
            <a:off x="15840" y="210996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endment: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Times New Roman"/>
              </a:rPr>
              <a:t>5 Freedo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eligion, assembly, petition, press, and spee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98960">
              <a:spcBef>
                <a:spcPts val="601"/>
              </a:spcBef>
              <a:buClr>
                <a:srgbClr val="00206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Times New Roman"/>
              </a:rPr>
              <a:t>Establishment Cla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government can not establish a state reli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98960">
              <a:spcBef>
                <a:spcPts val="601"/>
              </a:spcBef>
              <a:buClr>
                <a:srgbClr val="00206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Times New Roman"/>
              </a:rPr>
              <a:t>Free exercise Cla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itizens can worship (or not) any way they cho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2" name="Picture 4" descr="http://hiscrivener.files.wordpress.com/2009/04/state-of-the-first-amendment.jpeg"/>
          <p:cNvPicPr/>
          <p:nvPr/>
        </p:nvPicPr>
        <p:blipFill>
          <a:blip r:embed="rId2"/>
          <a:stretch/>
        </p:blipFill>
        <p:spPr>
          <a:xfrm>
            <a:off x="4114800" y="2057400"/>
            <a:ext cx="5029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"/>
          <p:cNvSpPr txBox="1"/>
          <p:nvPr/>
        </p:nvSpPr>
        <p:spPr>
          <a:xfrm>
            <a:off x="2282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mendment: right to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Times New Roman"/>
              </a:rPr>
              <a:t>bear a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mendment: government can’t ask you to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Times New Roman"/>
              </a:rPr>
              <a:t>quar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ld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4" name="Picture 5" descr="http://www.aclu.org/standup/comics/books/ThirdAmendment/page1.gif"/>
          <p:cNvPicPr/>
          <p:nvPr/>
        </p:nvPicPr>
        <p:blipFill>
          <a:blip r:embed="rId2"/>
          <a:stretch/>
        </p:blipFill>
        <p:spPr>
          <a:xfrm>
            <a:off x="3429000" y="2133720"/>
            <a:ext cx="57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"/>
          <p:cNvSpPr txBox="1"/>
          <p:nvPr/>
        </p:nvSpPr>
        <p:spPr>
          <a:xfrm>
            <a:off x="0" y="1752120"/>
            <a:ext cx="4648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mendment: protection against </a:t>
            </a:r>
            <a:r>
              <a:rPr b="1" lang="en-US" sz="2600" spc="-1" strike="noStrike" u="sng">
                <a:solidFill>
                  <a:srgbClr val="002060"/>
                </a:solidFill>
                <a:uFillTx/>
                <a:latin typeface="Times New Roman"/>
              </a:rPr>
              <a:t>sear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 u="sng">
                <a:solidFill>
                  <a:srgbClr val="002060"/>
                </a:solidFill>
                <a:uFillTx/>
                <a:latin typeface="Times New Roman"/>
              </a:rPr>
              <a:t>seiz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ce need </a:t>
            </a:r>
            <a:r>
              <a:rPr b="1" lang="en-US" sz="2600" spc="-1" strike="noStrike" u="sng">
                <a:solidFill>
                  <a:srgbClr val="002060"/>
                </a:solidFill>
                <a:uFillTx/>
                <a:latin typeface="Times New Roman"/>
              </a:rPr>
              <a:t>search warrant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 probable cau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mendment: due process of law, right to remain silent, indictment by a grand jury, double jeopardy, and eminent domain (</a:t>
            </a:r>
            <a:r>
              <a:rPr b="1" lang="en-US" sz="2600" spc="-1" strike="noStrike" u="sng">
                <a:solidFill>
                  <a:srgbClr val="002060"/>
                </a:solidFill>
                <a:uFillTx/>
                <a:latin typeface="Times New Roman"/>
              </a:rPr>
              <a:t>rights of person’s accused of a cri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6" name="Picture 2" descr="North Carolina v. Butler cartoons image illustration picture"/>
          <p:cNvPicPr/>
          <p:nvPr/>
        </p:nvPicPr>
        <p:blipFill>
          <a:blip r:embed="rId2"/>
          <a:stretch/>
        </p:blipFill>
        <p:spPr>
          <a:xfrm>
            <a:off x="4876920" y="2025720"/>
            <a:ext cx="37335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"/>
          <p:cNvSpPr txBox="1"/>
          <p:nvPr/>
        </p:nvSpPr>
        <p:spPr>
          <a:xfrm>
            <a:off x="228600" y="190476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mendment: right to a speedy, fair, and public trial of your peers, right to a lawyer/attorney/ counsel, right to confront witnesses, right to bring witnesses to testify on your behalf. (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Times New Roman"/>
              </a:rPr>
              <a:t>more rights of the accu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8" name="Picture 2" descr="Miller-El v. Dretke cartoons image illustration picture"/>
          <p:cNvPicPr/>
          <p:nvPr/>
        </p:nvPicPr>
        <p:blipFill>
          <a:blip r:embed="rId2"/>
          <a:stretch/>
        </p:blipFill>
        <p:spPr>
          <a:xfrm>
            <a:off x="4567320" y="2133720"/>
            <a:ext cx="352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mendment: right to a jury trial in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Times New Roman"/>
              </a:rPr>
              <a:t>civil c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re than $20.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mendment: right to apply for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Times New Roman"/>
              </a:rPr>
              <a:t>ba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Times New Roman"/>
              </a:rPr>
              <a:t>cru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Times New Roman"/>
              </a:rPr>
              <a:t>unus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un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0" name="Picture 2" descr="United States v. Goba cartoons image illustration picture"/>
          <p:cNvPicPr/>
          <p:nvPr/>
        </p:nvPicPr>
        <p:blipFill>
          <a:blip r:embed="rId2"/>
          <a:stretch/>
        </p:blipFill>
        <p:spPr>
          <a:xfrm>
            <a:off x="4724280" y="2209680"/>
            <a:ext cx="358632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"/>
          <p:cNvSpPr txBox="1"/>
          <p:nvPr/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mendment: All powers not listed in the constitution belong to the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Times New Roman"/>
              </a:rPr>
              <a:t>peo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mendment: All powers not listed in Constitution belong to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Times New Roman"/>
              </a:rPr>
              <a:t>st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the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Times New Roman"/>
              </a:rPr>
              <a:t>peo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2" name="Picture 4" descr="No Freedom, No Worries, No Problem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2133720"/>
            <a:ext cx="43909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3" name="Picture 4" descr="http://www.maxwell.syr.edu/plegal/cartoons/bor.jpg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2:25:42Z</dcterms:created>
  <dc:creator>Nancy Harry</dc:creator>
  <dc:description/>
  <dc:language>en-US</dc:language>
  <cp:lastModifiedBy>ncate</cp:lastModifiedBy>
  <dcterms:modified xsi:type="dcterms:W3CDTF">2016-06-15T18:31:04Z</dcterms:modified>
  <cp:revision>20</cp:revision>
  <dc:subject/>
  <dc:title>Federalists, Anti-Federalists and The Federalist Papers</dc:title>
</cp:coreProperties>
</file>