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3152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18D-1FCB-49EC-929B-3C36E144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658512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549040"/>
            <a:ext cx="658512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D57-852F-4ED3-A113-CD6DA05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54904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54904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AD8-F08B-45F9-A61D-754391E7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3956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3956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54904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54904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549040"/>
            <a:ext cx="212004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642-FCB3-44FA-AC04-66EBC250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239560"/>
            <a:ext cx="658512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F76-F3F0-4429-8D8A-6AA3DF6E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658512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BFE-4C80-46BD-988C-AF752A8A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BB1-DB71-4680-A112-75A6A836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034-6288-4832-AA9B-F61F0603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85560"/>
            <a:ext cx="6585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442-2804-42DA-B285-BB1D0F05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54904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0F1-B26F-47D8-AD88-0774D08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54904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010-2349-48DD-96FA-F8F9ED1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39560"/>
            <a:ext cx="321336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549040"/>
            <a:ext cx="6585120" cy="302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B79-90DB-46AA-B8F4-359A9AD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855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239560"/>
            <a:ext cx="6585120" cy="6335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7422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42240"/>
            <a:ext cx="2317680" cy="6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422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8EA3D-3098-416E-A91F-7496A247BE8F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9760"/>
            <a:ext cx="7315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me: _________________________ Date: ________________ Period: 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1880" y="533520"/>
            <a:ext cx="5770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ges in Dem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440" y="914400"/>
            <a:ext cx="6583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ections: Make the appropriate change to the graph to illustrate the sit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8600" y="1309680"/>
            <a:ext cx="2762280" cy="2653560"/>
            <a:chOff x="228600" y="1309680"/>
            <a:chExt cx="2762280" cy="2653560"/>
          </a:xfrm>
        </p:grpSpPr>
        <p:grpSp>
          <p:nvGrpSpPr>
            <p:cNvPr id="45" name=""/>
            <p:cNvGrpSpPr/>
            <p:nvPr/>
          </p:nvGrpSpPr>
          <p:grpSpPr>
            <a:xfrm>
              <a:off x="228600" y="1309680"/>
              <a:ext cx="2762280" cy="2653560"/>
              <a:chOff x="228600" y="1309680"/>
              <a:chExt cx="2762280" cy="265356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228600" y="1309680"/>
                <a:ext cx="2761920" cy="2179800"/>
                <a:chOff x="228600" y="1309680"/>
                <a:chExt cx="2761920" cy="217980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553680" y="1469880"/>
                  <a:ext cx="0" cy="167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553680" y="3149280"/>
                  <a:ext cx="207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28600" y="1309680"/>
                  <a:ext cx="3250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1720" y="3149280"/>
                  <a:ext cx="56880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797040" y="1549440"/>
                <a:ext cx="1463760" cy="136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178000" y="2733480"/>
                <a:ext cx="4888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8600" y="3470400"/>
                <a:ext cx="27622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You get a raise at work so your income goes up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1447920" y="2136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190800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86240" y="1279440"/>
            <a:ext cx="2762280" cy="2455560"/>
            <a:chOff x="3486240" y="1279440"/>
            <a:chExt cx="2762280" cy="2455560"/>
          </a:xfrm>
        </p:grpSpPr>
        <p:grpSp>
          <p:nvGrpSpPr>
            <p:cNvPr id="57" name=""/>
            <p:cNvGrpSpPr/>
            <p:nvPr/>
          </p:nvGrpSpPr>
          <p:grpSpPr>
            <a:xfrm>
              <a:off x="3486240" y="1279440"/>
              <a:ext cx="2762280" cy="2455560"/>
              <a:chOff x="3486240" y="1279440"/>
              <a:chExt cx="2762280" cy="245556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3486240" y="1279440"/>
                <a:ext cx="2761920" cy="2179800"/>
                <a:chOff x="3486240" y="1279440"/>
                <a:chExt cx="2761920" cy="21798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811320" y="1439640"/>
                  <a:ext cx="0" cy="167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11320" y="3119040"/>
                  <a:ext cx="207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486240" y="1279440"/>
                  <a:ext cx="3250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679360" y="3119040"/>
                  <a:ext cx="56880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4054680" y="1519200"/>
                <a:ext cx="1463760" cy="136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35640" y="2703240"/>
                <a:ext cx="4888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86240" y="3440160"/>
                <a:ext cx="276228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he price of beef goes up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705560" y="21063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81520" y="187776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28600" y="4052880"/>
            <a:ext cx="2762280" cy="2653560"/>
            <a:chOff x="228600" y="4052880"/>
            <a:chExt cx="2762280" cy="2653560"/>
          </a:xfrm>
        </p:grpSpPr>
        <p:grpSp>
          <p:nvGrpSpPr>
            <p:cNvPr id="69" name=""/>
            <p:cNvGrpSpPr/>
            <p:nvPr/>
          </p:nvGrpSpPr>
          <p:grpSpPr>
            <a:xfrm>
              <a:off x="228600" y="4052880"/>
              <a:ext cx="2762280" cy="2653560"/>
              <a:chOff x="228600" y="4052880"/>
              <a:chExt cx="2762280" cy="265356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228600" y="4052880"/>
                <a:ext cx="2761920" cy="2179800"/>
                <a:chOff x="228600" y="4052880"/>
                <a:chExt cx="2761920" cy="21798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53680" y="4213080"/>
                  <a:ext cx="0" cy="167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53680" y="5892480"/>
                  <a:ext cx="207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28600" y="4052880"/>
                  <a:ext cx="3250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421720" y="5892480"/>
                  <a:ext cx="56880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797040" y="4292640"/>
                <a:ext cx="1463760" cy="136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78000" y="5476680"/>
                <a:ext cx="4888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8600" y="6213600"/>
                <a:ext cx="27622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You decide that you are tired of drinking Pepsi 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447920" y="48798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3880" y="465120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52280" y="38862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562200" y="4052880"/>
            <a:ext cx="3295800" cy="2653200"/>
            <a:chOff x="3562200" y="4052880"/>
            <a:chExt cx="3295800" cy="2653200"/>
          </a:xfrm>
        </p:grpSpPr>
        <p:grpSp>
          <p:nvGrpSpPr>
            <p:cNvPr id="82" name=""/>
            <p:cNvGrpSpPr/>
            <p:nvPr/>
          </p:nvGrpSpPr>
          <p:grpSpPr>
            <a:xfrm>
              <a:off x="3562200" y="4052880"/>
              <a:ext cx="2761920" cy="2179800"/>
              <a:chOff x="3562200" y="4052880"/>
              <a:chExt cx="2761920" cy="2179800"/>
            </a:xfrm>
          </p:grpSpPr>
          <p:sp>
            <p:nvSpPr>
              <p:cNvPr id="83" name=""/>
              <p:cNvSpPr/>
              <p:nvPr/>
            </p:nvSpPr>
            <p:spPr>
              <a:xfrm>
                <a:off x="3887280" y="4213080"/>
                <a:ext cx="0" cy="167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887280" y="5892480"/>
                <a:ext cx="207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62200" y="4052880"/>
                <a:ext cx="3250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55320" y="5892480"/>
                <a:ext cx="5688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130640" y="4292640"/>
              <a:ext cx="1463760" cy="13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1960" y="5476680"/>
              <a:ext cx="4888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62200" y="6213240"/>
              <a:ext cx="32958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You expect that a new i-pod will mean you won’t be buying CDs anymo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81520" y="48798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7840" y="4651200"/>
              <a:ext cx="380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28600" y="6948360"/>
            <a:ext cx="2762280" cy="2455560"/>
            <a:chOff x="228600" y="6948360"/>
            <a:chExt cx="2762280" cy="2455560"/>
          </a:xfrm>
        </p:grpSpPr>
        <p:grpSp>
          <p:nvGrpSpPr>
            <p:cNvPr id="93" name=""/>
            <p:cNvGrpSpPr/>
            <p:nvPr/>
          </p:nvGrpSpPr>
          <p:grpSpPr>
            <a:xfrm>
              <a:off x="228600" y="6948360"/>
              <a:ext cx="2762280" cy="2455560"/>
              <a:chOff x="228600" y="6948360"/>
              <a:chExt cx="2762280" cy="24555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228600" y="6948360"/>
                <a:ext cx="2761920" cy="2179800"/>
                <a:chOff x="228600" y="6948360"/>
                <a:chExt cx="2761920" cy="21798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53680" y="7108560"/>
                  <a:ext cx="0" cy="167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53680" y="8787960"/>
                  <a:ext cx="207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28600" y="6948360"/>
                  <a:ext cx="3250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421720" y="8787960"/>
                  <a:ext cx="56880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797040" y="7188120"/>
                <a:ext cx="1463760" cy="136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178000" y="8372160"/>
                <a:ext cx="4888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600" y="9109080"/>
                <a:ext cx="276228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he price i-pods goes down  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447920" y="7775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754668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52280" y="67500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62200" y="6948360"/>
            <a:ext cx="2762280" cy="2653560"/>
            <a:chOff x="3562200" y="6948360"/>
            <a:chExt cx="2762280" cy="2653560"/>
          </a:xfrm>
        </p:grpSpPr>
        <p:grpSp>
          <p:nvGrpSpPr>
            <p:cNvPr id="106" name=""/>
            <p:cNvGrpSpPr/>
            <p:nvPr/>
          </p:nvGrpSpPr>
          <p:grpSpPr>
            <a:xfrm>
              <a:off x="3562200" y="6948360"/>
              <a:ext cx="2762280" cy="2653560"/>
              <a:chOff x="3562200" y="6948360"/>
              <a:chExt cx="2762280" cy="26535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3562200" y="6948360"/>
                <a:ext cx="2761920" cy="2179800"/>
                <a:chOff x="3562200" y="6948360"/>
                <a:chExt cx="2761920" cy="21798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887280" y="7108560"/>
                  <a:ext cx="0" cy="167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87280" y="8787960"/>
                  <a:ext cx="207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562200" y="6948360"/>
                  <a:ext cx="3250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755320" y="8787960"/>
                  <a:ext cx="56880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4130640" y="7188120"/>
                <a:ext cx="1463760" cy="136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11600" y="8372160"/>
                <a:ext cx="4888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2200" y="9109080"/>
                <a:ext cx="27622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 drought makes the price of grain go u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781520" y="7775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57480" y="754668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09480" y="1219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all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1219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962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Pe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3962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6811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i-p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6811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G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28600" y="533520"/>
            <a:ext cx="2762280" cy="2851560"/>
            <a:chOff x="228600" y="533520"/>
            <a:chExt cx="2762280" cy="2851560"/>
          </a:xfrm>
        </p:grpSpPr>
        <p:grpSp>
          <p:nvGrpSpPr>
            <p:cNvPr id="124" name=""/>
            <p:cNvGrpSpPr/>
            <p:nvPr/>
          </p:nvGrpSpPr>
          <p:grpSpPr>
            <a:xfrm>
              <a:off x="228600" y="533520"/>
              <a:ext cx="2762280" cy="2851560"/>
              <a:chOff x="228600" y="533520"/>
              <a:chExt cx="2762280" cy="28515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228600" y="533520"/>
                <a:ext cx="2761920" cy="2179800"/>
                <a:chOff x="228600" y="533520"/>
                <a:chExt cx="2761920" cy="2179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53680" y="693720"/>
                  <a:ext cx="0" cy="167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53680" y="2373120"/>
                  <a:ext cx="207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28600" y="533520"/>
                  <a:ext cx="3250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421720" y="2373120"/>
                  <a:ext cx="56880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797040" y="773280"/>
                <a:ext cx="1463760" cy="136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78000" y="1957320"/>
                <a:ext cx="4888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8600" y="2694240"/>
                <a:ext cx="276228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ow does the demand for DVDs change when the price of players goes down?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447920" y="13604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113184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86240" y="533520"/>
            <a:ext cx="2762280" cy="2455560"/>
            <a:chOff x="3486240" y="533520"/>
            <a:chExt cx="2762280" cy="2455560"/>
          </a:xfrm>
        </p:grpSpPr>
        <p:grpSp>
          <p:nvGrpSpPr>
            <p:cNvPr id="136" name=""/>
            <p:cNvGrpSpPr/>
            <p:nvPr/>
          </p:nvGrpSpPr>
          <p:grpSpPr>
            <a:xfrm>
              <a:off x="3486240" y="533520"/>
              <a:ext cx="2762280" cy="2455560"/>
              <a:chOff x="3486240" y="533520"/>
              <a:chExt cx="2762280" cy="24555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486240" y="533520"/>
                <a:ext cx="2761920" cy="2179800"/>
                <a:chOff x="3486240" y="533520"/>
                <a:chExt cx="2761920" cy="21798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811320" y="693720"/>
                  <a:ext cx="0" cy="167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811320" y="2373120"/>
                  <a:ext cx="207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486240" y="533520"/>
                  <a:ext cx="3250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679360" y="2373120"/>
                  <a:ext cx="56880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054680" y="773280"/>
                <a:ext cx="1463760" cy="136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35640" y="1957320"/>
                <a:ext cx="4888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86240" y="2694240"/>
                <a:ext cx="276228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he price of cars goes down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705560" y="13604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1520" y="113184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8600" y="4997520"/>
            <a:ext cx="2762280" cy="2653200"/>
            <a:chOff x="228600" y="4997520"/>
            <a:chExt cx="2762280" cy="2653200"/>
          </a:xfrm>
        </p:grpSpPr>
        <p:grpSp>
          <p:nvGrpSpPr>
            <p:cNvPr id="148" name=""/>
            <p:cNvGrpSpPr/>
            <p:nvPr/>
          </p:nvGrpSpPr>
          <p:grpSpPr>
            <a:xfrm>
              <a:off x="228600" y="4997520"/>
              <a:ext cx="2762280" cy="2653200"/>
              <a:chOff x="228600" y="4997520"/>
              <a:chExt cx="2762280" cy="2653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28600" y="4997520"/>
                <a:ext cx="2761920" cy="2179440"/>
                <a:chOff x="228600" y="4997520"/>
                <a:chExt cx="2761920" cy="21794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53680" y="5157360"/>
                  <a:ext cx="0" cy="1679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53680" y="6836760"/>
                  <a:ext cx="207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28600" y="4997520"/>
                  <a:ext cx="3250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421720" y="6836760"/>
                  <a:ext cx="56880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797040" y="5236920"/>
                <a:ext cx="1463760" cy="136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78000" y="6420960"/>
                <a:ext cx="4888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7157880"/>
                <a:ext cx="27622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 store is having a sale and their shirts are 20% off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447920" y="5824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559548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2280" y="419112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62200" y="4997520"/>
            <a:ext cx="2762280" cy="2851560"/>
            <a:chOff x="3562200" y="4997520"/>
            <a:chExt cx="2762280" cy="2851560"/>
          </a:xfrm>
        </p:grpSpPr>
        <p:grpSp>
          <p:nvGrpSpPr>
            <p:cNvPr id="161" name=""/>
            <p:cNvGrpSpPr/>
            <p:nvPr/>
          </p:nvGrpSpPr>
          <p:grpSpPr>
            <a:xfrm>
              <a:off x="3562200" y="4997520"/>
              <a:ext cx="2762280" cy="2851560"/>
              <a:chOff x="3562200" y="4997520"/>
              <a:chExt cx="2762280" cy="28515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3562200" y="4997520"/>
                <a:ext cx="2761920" cy="2179800"/>
                <a:chOff x="3562200" y="4997520"/>
                <a:chExt cx="2761920" cy="21798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887280" y="5157720"/>
                  <a:ext cx="0" cy="167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887280" y="6837120"/>
                  <a:ext cx="207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562200" y="4997520"/>
                  <a:ext cx="32508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755320" y="6837120"/>
                  <a:ext cx="56880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4130640" y="5237280"/>
                <a:ext cx="1463760" cy="136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511600" y="6421320"/>
                <a:ext cx="48888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62200" y="7158240"/>
                <a:ext cx="276228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ow does the demand for chicken change if the price of beef goes down?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781520" y="58244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57480" y="5595840"/>
              <a:ext cx="381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3348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DV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04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c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754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4754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for chic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2:12:30Z</dcterms:created>
  <dc:creator>Northside ISD</dc:creator>
  <dc:description/>
  <dc:language>en-US</dc:language>
  <cp:lastModifiedBy>Northside ISD</cp:lastModifiedBy>
  <dcterms:modified xsi:type="dcterms:W3CDTF">2010-03-09T13:24:56Z</dcterms:modified>
  <cp:revision>6</cp:revision>
  <dc:subject/>
  <dc:title>Slide 1</dc:title>
</cp:coreProperties>
</file>