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09A-3D41-4873-A28D-DC3BA833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116-93EF-4590-AC83-DE13D4B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DA5-FDAB-422E-9B3E-FBAAEEB6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3AB-F19B-456F-B142-9956066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C5E6-7B94-41DA-8D7E-905B1E93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ECF5-A425-4446-B290-A84E822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BC3-C70A-407A-A4B6-98BF504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DA2-F824-4CB3-9226-2DE1F57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368A-098B-426E-B4E7-E607322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CB30-7402-4DDA-BEE8-4E19DB4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6FC2-2F6E-4F90-87AB-36C33E3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9E8-08C3-4A48-AA9B-88C8193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C1EF-604D-4079-A1BB-FA1D1A0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5FBF-392C-4B11-8145-48B62D3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DFD1-9C21-4CB6-A82B-3C0455B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C750-5B5D-47F6-9427-0B21DA4E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F806-BBB3-4E5F-83D1-4903E26B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039E4-A431-4FD4-9D31-DB8C58CB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DC63F-0974-4C3C-B1FC-020F5B10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2B27A-6477-4A28-8CF0-938BD2A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7C8CE-FD1D-405D-8692-9F2369E1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89DE0-DC8B-4DE0-A37F-4EA2B1F4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23E-BA65-42EC-90E4-3412F51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EDAB-69F6-469A-922D-10D32344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AE0DD-B9EF-43A1-A875-FE87C99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C3E95-7ABB-496F-823E-5D71A2D9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F9E4B-C295-4279-8D5A-7AFF25D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3E927-6B74-4D3A-A5D9-8B5A33C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26E48-CB4A-41B5-BE79-B3231CC3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22D1E-89DD-4731-890B-BF43F179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3A7C2-F4F0-4A16-B912-0153C874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AFD8-9061-4770-ABE3-2B8D283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C555-EBFF-43CE-86E4-68B428F3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E07-0B08-470F-8432-41AF6F3D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C1FE-00E0-444D-9E12-0C87532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249E-D27F-4F6F-9605-B1F4EDF2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C060-1335-47D3-8B0F-E3EDBAD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63205-F798-419A-B70F-5FD2315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9F01-0CAA-4D7A-878F-EAAA53A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F711-95A9-49EF-A133-4CFD2F2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251B6-B582-41C0-AD83-F231629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7B1E-FD4C-49EC-87C9-B2110949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D0D3-3D26-4C8D-85D5-AF6369A7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EF710-2FF3-4793-85E8-3A4CFD56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D41-8769-4229-ABA5-85939F9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71B64-2B0D-4C2B-8C78-989F290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81F22-4CAF-45B3-AACA-B2739F7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5556F-1F43-4E3C-95B0-180B1CD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21F1A-86D4-4545-B2B8-F743762E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FF22E-7A58-4AA3-A24F-116F19B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7D839-6ED9-43AE-A060-EA7923C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901B2-A89E-406F-BE9E-3C0FE568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3A4E7-E06B-49A9-890E-45BE246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7A39A-D669-4467-B06F-93C7AED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B1A9E-7AB1-4405-A19B-B9D9870F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C52-F0DA-485C-BB70-29F7025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D849E-CE44-4616-9628-2586178F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B82E3-55A6-41B7-B7DA-6D34DF56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9919C-FF05-43F4-9156-DF08B0B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228AC-89EE-47CF-ADEC-AE08922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01509-10D6-4DDE-BD16-10F9B88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FD306-6A78-4654-AE97-C9791DF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AB228-1DCD-4F1F-BF74-CEEE1DF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6A21C-79B1-48F4-B6A1-C643813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7DFE2-021F-4A62-83BC-D9F61E5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F77C8-FAC4-40CA-B700-3778C9B4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C9A-368E-4526-86E9-AB7643EA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172F9-4D5E-4B09-8B13-0C8D2F98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1F5E7-C6EC-4FE1-8D3B-66DA425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B2711-2C33-4EFA-A795-0DAC29E1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EB701-C5D0-44B2-9FFE-63F98E37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2806E-8C68-4BEA-BAFA-28F9A576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F4962-2581-4723-B9D2-F8DD7258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218AB-38D8-4D08-976B-3162D17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148BF-EDC0-476D-939B-EC471F2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4CC78-B728-46BF-9291-1320583A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9C79F-5221-48A9-A50A-BB541B9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D12-DE77-46E6-BBBE-5C8C3EB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466F8-70DF-4807-A9FD-E262ED7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AB131-4216-44B3-8A2C-2113569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5CD0E-8769-430A-A709-CE5040A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1B76E-9D65-4817-A98C-297A1217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8886A-95EC-4685-8C25-EAE712C1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B74-20B7-4DFA-87E9-FE8AE14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F9E-CB2D-456E-AB27-0188FB817E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7C2E-D24C-4866-A1BC-03C1024BCF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42A-B856-4FA6-B1D5-EA7DC86779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5076-0F89-421F-8EAE-9B5D9209D7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38A-DE5C-4CCF-82C3-826358D407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585-5A50-404F-BEA4-F3E0176A6A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F7D-4D27-4AD4-9E9E-A1451E763B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RANCHES OF GOVERN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EGISLA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ke Law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Capital Building (Washington D.C.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icameral Hous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2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Senat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25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House of Representatives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ader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ice President (Senate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Speaker of the House (House of Representatives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owers in Constitu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int and Borrow Mone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pose budge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egulate Trad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Declare War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vide maintenance to the nav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http://ts4.mm.bing.net/th?id=H.4606086995575855&amp;pid=1.7&amp;w=208&amp;h=123&amp;c=7&amp;rs=1"/>
          <p:cNvPicPr/>
          <p:nvPr/>
        </p:nvPicPr>
        <p:blipFill>
          <a:blip r:embed="rId1"/>
          <a:stretch/>
        </p:blipFill>
        <p:spPr>
          <a:xfrm>
            <a:off x="609480" y="4992840"/>
            <a:ext cx="2895840" cy="1712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ts4.mm.bing.net/th?id=H.4775566390853891&amp;pid=1.7&amp;w=174&amp;h=144&amp;c=7&amp;rs=1"/>
          <p:cNvPicPr/>
          <p:nvPr/>
        </p:nvPicPr>
        <p:blipFill>
          <a:blip r:embed="rId2"/>
          <a:stretch/>
        </p:blipFill>
        <p:spPr>
          <a:xfrm>
            <a:off x="6248520" y="201600"/>
            <a:ext cx="20574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force Law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te Hou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ded by the Presid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ssisted by his cabin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ident of the United States (Barack Obam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s in Constit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gn or veto bil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commend heads of government departm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ander-in-Chief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sue pard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http://ts2.mm.bing.net/th?id=H.4890907759149077&amp;pid=1.7&amp;w=191&amp;h=150&amp;c=7&amp;rs=1"/>
          <p:cNvPicPr/>
          <p:nvPr/>
        </p:nvPicPr>
        <p:blipFill>
          <a:blip r:embed="rId1"/>
          <a:stretch/>
        </p:blipFill>
        <p:spPr>
          <a:xfrm>
            <a:off x="6248520" y="152280"/>
            <a:ext cx="220968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http://ts4.mm.bing.net/th?id=H.4904956574433647&amp;pid=1.7&amp;w=237&amp;h=132&amp;c=7&amp;rs=1"/>
          <p:cNvPicPr/>
          <p:nvPr/>
        </p:nvPicPr>
        <p:blipFill>
          <a:blip r:embed="rId2"/>
          <a:stretch/>
        </p:blipFill>
        <p:spPr>
          <a:xfrm>
            <a:off x="838080" y="4950000"/>
            <a:ext cx="27432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UDICIAL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pret Law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reme Cou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reme Cou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strict Cou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urt of Appeal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ief Justi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s of the Supreme Cou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s in Constit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r federal cases regarding violations of federal law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http://ts4.mm.bing.net/th?id=H.4706859792400931&amp;pid=1.7&amp;w=157&amp;h=140&amp;c=7&amp;rs=1"/>
          <p:cNvPicPr/>
          <p:nvPr/>
        </p:nvPicPr>
        <p:blipFill>
          <a:blip r:embed="rId1"/>
          <a:stretch/>
        </p:blipFill>
        <p:spPr>
          <a:xfrm>
            <a:off x="1219320" y="50292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ts2.mm.bing.net/th?id=H.4686518848717829&amp;pid=1.7&amp;w=210&amp;h=146&amp;c=7&amp;rs=1"/>
          <p:cNvPicPr/>
          <p:nvPr/>
        </p:nvPicPr>
        <p:blipFill>
          <a:blip r:embed="rId2"/>
          <a:stretch/>
        </p:blipFill>
        <p:spPr>
          <a:xfrm>
            <a:off x="4952880" y="5105520"/>
            <a:ext cx="2210040" cy="1536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ts1.mm.bing.net/th?id=H.4574252722422320&amp;pid=1.7&amp;w=242&amp;h=154&amp;c=7&amp;rs=1"/>
          <p:cNvPicPr/>
          <p:nvPr/>
        </p:nvPicPr>
        <p:blipFill>
          <a:blip r:embed="rId3"/>
          <a:stretch/>
        </p:blipFill>
        <p:spPr>
          <a:xfrm>
            <a:off x="6172200" y="304920"/>
            <a:ext cx="23050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2:09:46Z</dcterms:created>
  <dc:creator>e073573</dc:creator>
  <dc:description/>
  <dc:language>en-US</dc:language>
  <cp:lastModifiedBy>e073573</cp:lastModifiedBy>
  <dcterms:modified xsi:type="dcterms:W3CDTF">2016-05-23T19:36:47Z</dcterms:modified>
  <cp:revision>31</cp:revision>
  <dc:subject/>
  <dc:title>Branches of Government</dc:title>
</cp:coreProperties>
</file>