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008-60E1-4297-9CF5-D7E3F333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4904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993-5D0E-4F9D-BFB8-37CFD4E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1FB-92F6-4D34-AE41-0338702F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476-7C02-4F0F-AE15-59F2E4A5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CEB-3CC8-4669-BE93-DE0FCC5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469-D861-4C75-B42D-0F6A46E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D48-0ECB-4778-85D3-1D21C0F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9CF-002A-42DC-8716-35A9B6B9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55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27A-78B2-46E8-B925-794E9073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81E-C544-4BE3-83FB-8578CAC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28C-A70E-40A2-8630-84EF962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047-41B0-431F-8DF8-38A8D90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22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22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22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E6012-5570-46F1-A0AE-6C2719C03F5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9760"/>
            <a:ext cx="7315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: _________________________ Date: ________________ Period: 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1880" y="533520"/>
            <a:ext cx="5770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s in Supply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14400"/>
            <a:ext cx="6583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ions: Make the appropriate change to the graph to illustrate the situation. (4 movements / 6 shif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8862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7500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4040" y="1531800"/>
            <a:ext cx="0" cy="16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4040" y="3211560"/>
            <a:ext cx="20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325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22440" y="3211560"/>
            <a:ext cx="568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5440" y="1676520"/>
            <a:ext cx="15238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78000" y="160020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394080"/>
            <a:ext cx="2762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wood you use to build tables has become more expensiv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07180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4018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790800" y="1371600"/>
            <a:ext cx="2761920" cy="2180160"/>
            <a:chOff x="3790800" y="1371600"/>
            <a:chExt cx="2761920" cy="2180160"/>
          </a:xfrm>
        </p:grpSpPr>
        <p:sp>
          <p:nvSpPr>
            <p:cNvPr id="57" name=""/>
            <p:cNvSpPr/>
            <p:nvPr/>
          </p:nvSpPr>
          <p:spPr>
            <a:xfrm>
              <a:off x="4115880" y="1531800"/>
              <a:ext cx="0" cy="16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5880" y="3211560"/>
              <a:ext cx="20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90800" y="1371600"/>
              <a:ext cx="325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83920" y="3211560"/>
              <a:ext cx="568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4248000" y="1676520"/>
            <a:ext cx="1524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40560" y="160020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90800" y="3394080"/>
            <a:ext cx="2762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rice of cell phones goes u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012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1520" y="207180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24320" y="14018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cell 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4038480"/>
            <a:ext cx="2761920" cy="2180160"/>
            <a:chOff x="228600" y="4038480"/>
            <a:chExt cx="2761920" cy="2180160"/>
          </a:xfrm>
        </p:grpSpPr>
        <p:sp>
          <p:nvSpPr>
            <p:cNvPr id="68" name=""/>
            <p:cNvSpPr/>
            <p:nvPr/>
          </p:nvSpPr>
          <p:spPr>
            <a:xfrm>
              <a:off x="553680" y="4198680"/>
              <a:ext cx="0" cy="16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3680" y="5878440"/>
              <a:ext cx="20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4038480"/>
              <a:ext cx="325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1720" y="5878440"/>
              <a:ext cx="568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>
            <a:off x="685440" y="4343400"/>
            <a:ext cx="15238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78000" y="426708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60960"/>
            <a:ext cx="2762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l announces that it will cut the cost of PCs in 6 month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73868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06872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Dell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90800" y="4038480"/>
            <a:ext cx="2761920" cy="2180160"/>
            <a:chOff x="3790800" y="4038480"/>
            <a:chExt cx="2761920" cy="2180160"/>
          </a:xfrm>
        </p:grpSpPr>
        <p:sp>
          <p:nvSpPr>
            <p:cNvPr id="79" name=""/>
            <p:cNvSpPr/>
            <p:nvPr/>
          </p:nvSpPr>
          <p:spPr>
            <a:xfrm>
              <a:off x="4115880" y="4198680"/>
              <a:ext cx="0" cy="16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5880" y="5878440"/>
              <a:ext cx="20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90800" y="4038480"/>
              <a:ext cx="325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83920" y="5878440"/>
              <a:ext cx="568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248000" y="4343400"/>
            <a:ext cx="15242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40560" y="426708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6060960"/>
            <a:ext cx="27622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ou bring in a machine that makes easier for your workers to make car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012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1520" y="473868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24320" y="406872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C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6858000"/>
            <a:ext cx="2761920" cy="2180160"/>
            <a:chOff x="228600" y="6858000"/>
            <a:chExt cx="2761920" cy="2180160"/>
          </a:xfrm>
        </p:grpSpPr>
        <p:sp>
          <p:nvSpPr>
            <p:cNvPr id="90" name=""/>
            <p:cNvSpPr/>
            <p:nvPr/>
          </p:nvSpPr>
          <p:spPr>
            <a:xfrm>
              <a:off x="553680" y="7018200"/>
              <a:ext cx="0" cy="16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680" y="8697960"/>
              <a:ext cx="20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6858000"/>
              <a:ext cx="325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21720" y="8697960"/>
              <a:ext cx="568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>
            <a:off x="685440" y="7162920"/>
            <a:ext cx="15238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8000" y="708660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8880480"/>
            <a:ext cx="27622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government requires that you use high quality steel when building skyscraper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7772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7558200"/>
            <a:ext cx="3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88824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Skyscr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733920" y="6858000"/>
            <a:ext cx="2761920" cy="2180160"/>
            <a:chOff x="3733920" y="6858000"/>
            <a:chExt cx="2761920" cy="2180160"/>
          </a:xfrm>
        </p:grpSpPr>
        <p:sp>
          <p:nvSpPr>
            <p:cNvPr id="101" name=""/>
            <p:cNvSpPr/>
            <p:nvPr/>
          </p:nvSpPr>
          <p:spPr>
            <a:xfrm>
              <a:off x="4059000" y="7018200"/>
              <a:ext cx="0" cy="16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59000" y="8697960"/>
              <a:ext cx="20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6858000"/>
              <a:ext cx="325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27040" y="8697960"/>
              <a:ext cx="5688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4190760" y="7162920"/>
            <a:ext cx="15238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83320" y="7086600"/>
            <a:ext cx="488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8880480"/>
            <a:ext cx="2762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rice of gasoline drop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7772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7558200"/>
            <a:ext cx="38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68882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of 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419112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838080"/>
            <a:ext cx="2762280" cy="2713320"/>
            <a:chOff x="304920" y="838080"/>
            <a:chExt cx="2762280" cy="27133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838080"/>
              <a:ext cx="2761920" cy="2180160"/>
              <a:chOff x="304920" y="838080"/>
              <a:chExt cx="2761920" cy="2180160"/>
            </a:xfrm>
          </p:grpSpPr>
          <p:sp>
            <p:nvSpPr>
              <p:cNvPr id="114" name=""/>
              <p:cNvSpPr/>
              <p:nvPr/>
            </p:nvSpPr>
            <p:spPr>
              <a:xfrm>
                <a:off x="630000" y="998280"/>
                <a:ext cx="0" cy="167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0000" y="2678040"/>
                <a:ext cx="207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838080"/>
                <a:ext cx="32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98040" y="2678040"/>
                <a:ext cx="5688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>
              <a:off x="761760" y="1143000"/>
              <a:ext cx="1523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54320" y="990720"/>
              <a:ext cx="4888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20" y="2860560"/>
              <a:ext cx="27622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he government provides a subsidy that pays farmers for each ton of wheat they produc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3880" y="1752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280" y="153828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86832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of Whe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90800" y="838080"/>
            <a:ext cx="2762280" cy="2317320"/>
            <a:chOff x="3790800" y="838080"/>
            <a:chExt cx="2762280" cy="2317320"/>
          </a:xfrm>
        </p:grpSpPr>
        <p:grpSp>
          <p:nvGrpSpPr>
            <p:cNvPr id="125" name=""/>
            <p:cNvGrpSpPr/>
            <p:nvPr/>
          </p:nvGrpSpPr>
          <p:grpSpPr>
            <a:xfrm>
              <a:off x="3790800" y="838080"/>
              <a:ext cx="2761920" cy="2180160"/>
              <a:chOff x="3790800" y="838080"/>
              <a:chExt cx="2761920" cy="2180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115880" y="998280"/>
                <a:ext cx="0" cy="167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15880" y="2678040"/>
                <a:ext cx="207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90800" y="838080"/>
                <a:ext cx="32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83920" y="2678040"/>
                <a:ext cx="5688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H="1">
              <a:off x="4247640" y="1143000"/>
              <a:ext cx="1523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0200" y="990720"/>
              <a:ext cx="4888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90800" y="2860560"/>
              <a:ext cx="276228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he price of blue jeans goes up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09760" y="1752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1160" y="153828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23960" y="86832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of blue j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4920" y="4830840"/>
            <a:ext cx="2762280" cy="2317320"/>
            <a:chOff x="304920" y="4830840"/>
            <a:chExt cx="2762280" cy="2317320"/>
          </a:xfrm>
        </p:grpSpPr>
        <p:grpSp>
          <p:nvGrpSpPr>
            <p:cNvPr id="137" name=""/>
            <p:cNvGrpSpPr/>
            <p:nvPr/>
          </p:nvGrpSpPr>
          <p:grpSpPr>
            <a:xfrm>
              <a:off x="304920" y="4830840"/>
              <a:ext cx="2761920" cy="2180160"/>
              <a:chOff x="304920" y="4830840"/>
              <a:chExt cx="2761920" cy="2180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30000" y="4991040"/>
                <a:ext cx="0" cy="167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0000" y="6670800"/>
                <a:ext cx="207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920" y="4830840"/>
                <a:ext cx="32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98040" y="6670800"/>
                <a:ext cx="5688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761760" y="5135760"/>
              <a:ext cx="1523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54320" y="4983480"/>
              <a:ext cx="4888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" y="6853320"/>
              <a:ext cx="276228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he price of pizza goes down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5745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553104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486108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of piz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81280" y="4846680"/>
            <a:ext cx="2762280" cy="2712960"/>
            <a:chOff x="3581280" y="4846680"/>
            <a:chExt cx="2762280" cy="2712960"/>
          </a:xfrm>
        </p:grpSpPr>
        <p:grpSp>
          <p:nvGrpSpPr>
            <p:cNvPr id="149" name=""/>
            <p:cNvGrpSpPr/>
            <p:nvPr/>
          </p:nvGrpSpPr>
          <p:grpSpPr>
            <a:xfrm>
              <a:off x="3581280" y="4846680"/>
              <a:ext cx="2761920" cy="2179800"/>
              <a:chOff x="3581280" y="4846680"/>
              <a:chExt cx="2761920" cy="2179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906360" y="5006880"/>
                <a:ext cx="0" cy="167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06360" y="6686280"/>
                <a:ext cx="207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81280" y="4846680"/>
                <a:ext cx="32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74400" y="6686280"/>
                <a:ext cx="5688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4038120" y="5151240"/>
              <a:ext cx="152388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30680" y="4998960"/>
              <a:ext cx="4888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6868800"/>
              <a:ext cx="27622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 shoe company cuts the vacation days of it’s employees making them unhapp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240" y="576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1640" y="554652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440" y="4876560"/>
              <a:ext cx="21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of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2:12:30Z</dcterms:created>
  <dc:creator>Northside ISD</dc:creator>
  <dc:description/>
  <dc:language>en-US</dc:language>
  <cp:lastModifiedBy>Northside ISD</cp:lastModifiedBy>
  <dcterms:modified xsi:type="dcterms:W3CDTF">2009-10-15T12:27:34Z</dcterms:modified>
  <cp:revision>4</cp:revision>
  <dc:subject/>
  <dc:title>Slide 1</dc:title>
</cp:coreProperties>
</file>