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601200" cy="73152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864216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520" y="4231800"/>
            <a:ext cx="864216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7880" y="170784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520" y="423180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7880" y="423180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27824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1640" y="1707840"/>
            <a:ext cx="27824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3400" y="1707840"/>
            <a:ext cx="27824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520" y="4231800"/>
            <a:ext cx="27824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1640" y="4231800"/>
            <a:ext cx="27824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3400" y="4231800"/>
            <a:ext cx="27824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10C24-5F47-4B6E-896C-29AD3E5E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5C22C-EE25-43D0-9264-D9BE5FFD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70C89-9F25-4B87-97B0-04AC5F50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421704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07880" y="1707840"/>
            <a:ext cx="421704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E754F-B6AC-4BDF-8A1B-88D67B56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5EBFB-7C3E-4C84-9AD3-5FDB76AF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79520" y="298080"/>
            <a:ext cx="8642160" cy="56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DECC0-5F83-4B6C-91DC-B930C55D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07880" y="1707840"/>
            <a:ext cx="421704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520" y="423180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146BE-3853-411B-AAB9-00F9F1C7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421704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7880" y="170784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7880" y="423180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C1483-7595-45F6-8428-28B117CB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7880" y="170784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520" y="4231800"/>
            <a:ext cx="864216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32106-29A4-4A89-AAB5-AB930677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864216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520" y="4231800"/>
            <a:ext cx="864216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81B22-B331-41C7-A98F-659F8F9E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07880" y="170784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520" y="423180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07880" y="423180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8D38E-6F17-4818-819B-86928987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27824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01640" y="1707840"/>
            <a:ext cx="27824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3400" y="1707840"/>
            <a:ext cx="27824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9520" y="4231800"/>
            <a:ext cx="27824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01640" y="4231800"/>
            <a:ext cx="27824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3400" y="4231800"/>
            <a:ext cx="27824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42EDC-5ED0-4545-80E0-763E4955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421704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7880" y="1707840"/>
            <a:ext cx="421704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79520" y="298080"/>
            <a:ext cx="8642160" cy="56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7880" y="1707840"/>
            <a:ext cx="421704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520" y="423180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421704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7880" y="170784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7880" y="423180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7880" y="1707840"/>
            <a:ext cx="421704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520" y="4231800"/>
            <a:ext cx="8642160" cy="2304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 fontScale="90000"/>
          </a:bodyPr>
          <a:p>
            <a:pPr marL="324000" indent="-32400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7200" indent="-309960">
              <a:spcBef>
                <a:spcPts val="2401"/>
              </a:spcBef>
              <a:buClr>
                <a:srgbClr val="990000"/>
              </a:buClr>
              <a:buSzPct val="60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2720" indent="-335520">
              <a:spcBef>
                <a:spcPts val="24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75840" indent="-302760">
              <a:spcBef>
                <a:spcPts val="240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324000">
              <a:spcBef>
                <a:spcPts val="240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324000">
              <a:spcBef>
                <a:spcPts val="24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324000">
              <a:spcBef>
                <a:spcPts val="24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629400"/>
            <a:ext cx="1959120" cy="488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91120" y="6629400"/>
            <a:ext cx="4946400" cy="488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99960" y="247680"/>
            <a:ext cx="8640720" cy="6476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79520" y="6585120"/>
            <a:ext cx="8642160" cy="0"/>
          </a:xfrm>
          <a:prstGeom prst="line">
            <a:avLst/>
          </a:prstGeom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60480" y="1625400"/>
            <a:ext cx="8004240" cy="1873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5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79520" y="6661080"/>
            <a:ext cx="2241360" cy="488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279600" y="6661080"/>
            <a:ext cx="3042000" cy="488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880320" y="6661080"/>
            <a:ext cx="2241360" cy="488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F863A-5980-41FE-8019-FDB426130DD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9720" y="1301760"/>
            <a:ext cx="8321760" cy="9777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79720" y="4229280"/>
            <a:ext cx="683712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1066680"/>
            <a:ext cx="8508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Digital Common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Starting an Institutional Repository at a Small Univers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3733920"/>
            <a:ext cx="609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opher W. No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ant University Librar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nity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nolan@trinity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Marketing to Students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is where it’s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is great for resumes, grad school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re future alumni,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faculty for names of students who have done exemplary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Marketing to Faculty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off their students’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the impact of their own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management of their creatio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dding resources other than faculty journal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Branding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’s (and perhaps consortium’s) brand important for students, administrators, alumni,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y more likely want personal or professional br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Marketing to Other Campus Entiti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ation: highlight faculty &amp; student achievements in on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creators:  drama, communications, musical perfo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ial communications:  Faculty Hand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44184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04800" y="509760"/>
            <a:ext cx="6134400" cy="58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Planning Growth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over-pr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-select projects likely to suc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initial successes as seeds for new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your marketing (&amp; repeat it of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natural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onsortium-Linked Repository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sav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expertise (&amp; perhaps procedures, standard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tool, both external and inte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4520">
              <a:spcBef>
                <a:spcPts val="1349"/>
              </a:spcBef>
              <a:buClr>
                <a:srgbClr val="990000"/>
              </a:buClr>
              <a:buSzPct val="60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ghlight products of fine liberal arts schoo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4520">
              <a:spcBef>
                <a:spcPts val="1349"/>
              </a:spcBef>
              <a:buClr>
                <a:srgbClr val="990000"/>
              </a:buClr>
              <a:buSzPct val="60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courage our community to keep up with pe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Project Summary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repository based on Berkeley Electronic Press publishing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rtium project with Carleton, Dickinson, Middlebury Colleges &amp; Trinity U. at this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theses &amp; honors papers first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opyright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42520" cy="4343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ning 2004-05, all Trinity students will submit theses electron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retain copyright to their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ed to sign Creative Commons copy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4400" y="0"/>
            <a:ext cx="95724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400" y="0"/>
            <a:ext cx="95724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One Size Fits All?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repository excellent for papers, web pages, videos (but without stream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re planning to use other software for digital photo archives (but will tie to 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Possible Upcoming Additions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642520" cy="4832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reviewed senior student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y/student co-authored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y bibliogra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ly edited e-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ed retrospective thesis ad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y and Contract Staff Hand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Goals: Primary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 fontScale="96000"/>
          </a:bodyPr>
          <a:p>
            <a:pPr marL="345600" indent="-34560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student thesis/honors project digital archiv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-330480">
              <a:spcBef>
                <a:spcPts val="1349"/>
              </a:spcBef>
              <a:buClr>
                <a:srgbClr val="990000"/>
              </a:buClr>
              <a:buSzPct val="60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student work more accessi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-330480">
              <a:spcBef>
                <a:spcPts val="1349"/>
              </a:spcBef>
              <a:buClr>
                <a:srgbClr val="990000"/>
              </a:buClr>
              <a:buSzPct val="60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mote Trinity’s record of undergraduate resear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-330480">
              <a:spcBef>
                <a:spcPts val="1349"/>
              </a:spcBef>
              <a:spcAft>
                <a:spcPts val="1687"/>
              </a:spcAft>
              <a:buClr>
                <a:srgbClr val="990000"/>
              </a:buClr>
              <a:buSzPct val="60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velop expertise in library for other digital proje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5600" indent="-345600">
              <a:spcBef>
                <a:spcPts val="2401"/>
              </a:spcBef>
              <a:spcAft>
                <a:spcPts val="2001"/>
              </a:spcAft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using staff time efficiently and sparing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Goals: Secondary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faculty scholarship repository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4520">
              <a:spcBef>
                <a:spcPts val="2024"/>
              </a:spcBef>
              <a:buClr>
                <a:srgbClr val="990000"/>
              </a:buClr>
              <a:buSzPct val="60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mote Trinity faculty resear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4520">
              <a:spcBef>
                <a:spcPts val="1349"/>
              </a:spcBef>
              <a:buClr>
                <a:srgbClr val="990000"/>
              </a:buClr>
              <a:buSzPct val="60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ch faculty about scholarly communication cri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4520">
              <a:spcBef>
                <a:spcPts val="1349"/>
              </a:spcBef>
              <a:buClr>
                <a:srgbClr val="990000"/>
              </a:buClr>
              <a:buSzPct val="60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how an open access/Creative Commons sol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dding other suitable campus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134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400" y="0"/>
            <a:ext cx="95724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9520" y="298440"/>
            <a:ext cx="8642160" cy="84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Digital Commons / bepress</a:t>
            </a: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241520" cy="4876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 fontScale="97000"/>
          </a:bodyPr>
          <a:p>
            <a:pPr marL="3492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1800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ed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1800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staff tim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1800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ive design &amp; interface out of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1800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abl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1800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le vendor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1800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innovative journal publi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1800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rtium-frien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76920" y="1523520"/>
            <a:ext cx="4241520" cy="4800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03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 subscription price is substa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st for larger items (entire papers), not for many small, discrete items like photo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Slow Start…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ation is a sn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ng a repository is much mo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es needed for content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e staff time devoted to mark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9520" y="298080"/>
            <a:ext cx="8642160" cy="1212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Establish Value</a:t>
            </a: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9520" y="1707840"/>
            <a:ext cx="8642160" cy="483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al repository is not a sexy c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campus problems you can solve or projects to which you can ad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2401"/>
              </a:spcBef>
              <a:buClr>
                <a:srgbClr val="003399"/>
              </a:buClr>
              <a:buSzPct val="65000"/>
              <a:buFont typeface="Wingdings" charset="2"/>
              <a:buChar char="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on library’s re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2T18:56:12Z</dcterms:created>
  <dc:creator>Christopher W Nolan</dc:creator>
  <dc:description/>
  <dc:language>en-US</dc:language>
  <cp:lastModifiedBy>Jane Costanza</cp:lastModifiedBy>
  <dcterms:modified xsi:type="dcterms:W3CDTF">2007-08-28T20:12:36Z</dcterms:modified>
  <cp:revision>51</cp:revision>
  <dc:subject/>
  <dc:title>Digital Commons @ Trinity</dc:title>
</cp:coreProperties>
</file>