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6012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520" y="423180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788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164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340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52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164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340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C2E55-532B-4A5F-BFDC-9AAD68C1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125A0-568E-4B39-AD96-87EEDC0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8B7AA-8B90-48B6-A624-4A6CA836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1BB92-404E-4C2E-85B7-0D5D3E16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E9CC4-4EB5-46A4-A8AD-9FEDB7E6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9520" y="298080"/>
            <a:ext cx="864216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67403-949F-47BE-A120-28F361FB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319BB-F4D7-4F6C-87CD-96EB404C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788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C3F21-5C77-4E2F-996A-AE5E8344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E1C03-D10C-4BE0-8CAB-7B93551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520" y="423180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579B8-2BCC-417A-BA2A-36F542FD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0788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917DE-F035-4218-8550-61423B1E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164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340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52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164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340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24A15-4ADE-4CF5-8C75-5A2E5D30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9520" y="298080"/>
            <a:ext cx="864216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788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0000"/>
          </a:bodyPr>
          <a:p>
            <a:pPr marL="324000" indent="-32400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-309960">
              <a:spcBef>
                <a:spcPts val="2401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2720" indent="-335520">
              <a:spcBef>
                <a:spcPts val="24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5840" indent="-302760">
              <a:spcBef>
                <a:spcPts val="240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4000">
              <a:spcBef>
                <a:spcPts val="240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4000">
              <a:spcBef>
                <a:spcPts val="24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4000">
              <a:spcBef>
                <a:spcPts val="24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629400"/>
            <a:ext cx="195912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91120" y="6629400"/>
            <a:ext cx="494640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9960" y="247680"/>
            <a:ext cx="8640720" cy="6476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79520" y="6585120"/>
            <a:ext cx="8642160" cy="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60480" y="1625400"/>
            <a:ext cx="8004240" cy="1873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5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79520" y="6661080"/>
            <a:ext cx="224136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279600" y="6661080"/>
            <a:ext cx="304200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880320" y="6661080"/>
            <a:ext cx="224136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BF51E-46B4-484E-91B5-24456E69D4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9720" y="1301760"/>
            <a:ext cx="8321760" cy="9777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79720" y="4229280"/>
            <a:ext cx="6837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1066680"/>
            <a:ext cx="850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Digital Commo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arting an Institutional Repository at a Small Un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373392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opher W. No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t University Libra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olan@trinity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Marketing to Students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is where it’s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is great for resumes, grad schoo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future alumni,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faculty for names of students who have done exemplar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Marketing to Facult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off their students’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impact of their ow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anagement of their cre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dding resources other than faculty journ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Branding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’s (and perhaps consortium’s) brand important for students, administrators, alumni,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more likely want personal or professional br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arketing to Other Campus Entiti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: highlight faculty &amp; student achievements in on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creators:  drama, communications, musical perf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 communications:  Faculty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44184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04800" y="509760"/>
            <a:ext cx="613440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Planning Growth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over-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-select projects likely to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itial successes as seeds for new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your marketing (&amp; repeat it of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natur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nsortium-Linked Repositor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expertise (&amp; perhaps procedures, standard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tool, both external and 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light products of fine liberal arts schoo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courage our community to keep up with pe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Project Summar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repository based on Berkeley Electronic Press publishing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um project with Carleton, Dickinson, Middlebury Colleges &amp; Trinity U. at this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theses &amp; honors papers firs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pyrigh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42520" cy="4343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2004-05, all Trinity students will submit theses electron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tain copyright to their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 to sign Creative Commons 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57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57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One Size Fits All?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repository excellent for papers, web pages, videos (but without stream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planning to use other software for digital photo archives (but will tie to 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Possible Upcoming Additions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642520" cy="4832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viewed senior studen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/student co-authored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bibli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edited e-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retrospective thesis ad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and Contract Staff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Goals: Primar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6000"/>
          </a:bodyPr>
          <a:p>
            <a:pPr marL="345600" indent="-34560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tudent thesis/honors project digital archiv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33048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tudent work more acce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33048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ote Trinity’s record of undergraduate resear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330480">
              <a:spcBef>
                <a:spcPts val="1349"/>
              </a:spcBef>
              <a:spcAft>
                <a:spcPts val="1687"/>
              </a:spcAft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elop expertise in library for other digital pro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5600" indent="-345600">
              <a:spcBef>
                <a:spcPts val="2401"/>
              </a:spcBef>
              <a:spcAft>
                <a:spcPts val="2001"/>
              </a:spcAft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using staff time efficiently and spari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Goals: Secondar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faculty scholarship repositor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2024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ote Trinity faculty resear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 faculty about scholarly communication cri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 an open access/Creative Commons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dding other suitable campu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134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57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9520" y="298440"/>
            <a:ext cx="8642160" cy="84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Digital Commons / bepres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241520" cy="4876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7000"/>
          </a:bodyPr>
          <a:p>
            <a:pPr marL="349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staff tim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 design &amp; interface out of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a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vendor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innovative journal 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rtium-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6920" y="1523520"/>
            <a:ext cx="4241520" cy="4800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subscription price is substa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st for larger items (entire papers), not for many small, discrete items like phot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Slow Start…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ation is a s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ng a repository is much mo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needed for content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e staff time devoted to mark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Establish Value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al repository is not a sexy c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campus problems you can solve or projects to which you can ad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on library’s 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18:56:12Z</dcterms:created>
  <dc:creator>Christopher W Nolan</dc:creator>
  <dc:description/>
  <dc:language>en-US</dc:language>
  <cp:lastModifiedBy>Jane Costanza</cp:lastModifiedBy>
  <dcterms:modified xsi:type="dcterms:W3CDTF">2007-08-28T20:12:36Z</dcterms:modified>
  <cp:revision>51</cp:revision>
  <dc:subject/>
  <dc:title>Digital Commons @ Trinity</dc:title>
</cp:coreProperties>
</file>